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12188825" cy="6858000"/>
  <p:notesSz cx="68580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0" name="PlaceHolder 1"/>
          <p:cNvSpPr>
            <a:spLocks noGrp="1"/>
          </p:cNvSpPr>
          <p:nvPr>
            <p:ph type="hdr"/>
          </p:nvPr>
        </p:nvSpPr>
        <p:spPr>
          <a:xfrm>
            <a:off x="-360" y="0"/>
            <a:ext cx="2971800" cy="49536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1" name="PlaceHolder 2"/>
          <p:cNvSpPr>
            <a:spLocks noGrp="1"/>
          </p:cNvSpPr>
          <p:nvPr>
            <p:ph type="dt" idx="4"/>
          </p:nvPr>
        </p:nvSpPr>
        <p:spPr>
          <a:xfrm>
            <a:off x="3884400" y="0"/>
            <a:ext cx="2971800" cy="49536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AR"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82" name="PlaceHolder 3"/>
          <p:cNvSpPr>
            <a:spLocks noGrp="1"/>
          </p:cNvSpPr>
          <p:nvPr>
            <p:ph type="sldImg"/>
          </p:nvPr>
        </p:nvSpPr>
        <p:spPr>
          <a:xfrm>
            <a:off x="120600" y="744120"/>
            <a:ext cx="66168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3" name="PlaceHolder 4"/>
          <p:cNvSpPr>
            <a:spLocks noGrp="1"/>
          </p:cNvSpPr>
          <p:nvPr>
            <p:ph type="body"/>
          </p:nvPr>
        </p:nvSpPr>
        <p:spPr>
          <a:xfrm>
            <a:off x="687240" y="4714560"/>
            <a:ext cx="54835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4" name="PlaceHolder 5"/>
          <p:cNvSpPr>
            <a:spLocks noGrp="1"/>
          </p:cNvSpPr>
          <p:nvPr>
            <p:ph type="ftr" idx="5"/>
          </p:nvPr>
        </p:nvSpPr>
        <p:spPr>
          <a:xfrm>
            <a:off x="-360" y="9429840"/>
            <a:ext cx="2971800" cy="49536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5" name="PlaceHolder 6"/>
          <p:cNvSpPr>
            <a:spLocks noGrp="1"/>
          </p:cNvSpPr>
          <p:nvPr>
            <p:ph type="sldNum" idx="6"/>
          </p:nvPr>
        </p:nvSpPr>
        <p:spPr>
          <a:xfrm>
            <a:off x="3884400" y="9429840"/>
            <a:ext cx="2971800" cy="4953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AR"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9DA50A-B5A3-47D8-B6A1-B0F0753E11B2}"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20600" y="744480"/>
            <a:ext cx="6616800" cy="3722760"/>
          </a:xfrm>
          <a:prstGeom prst="rect">
            <a:avLst/>
          </a:prstGeom>
          <a:ln w="0">
            <a:noFill/>
          </a:ln>
        </p:spPr>
      </p:sp>
      <p:sp>
        <p:nvSpPr>
          <p:cNvPr id="160" name="PlaceHolder 2"/>
          <p:cNvSpPr>
            <a:spLocks noGrp="1"/>
          </p:cNvSpPr>
          <p:nvPr>
            <p:ph type="body"/>
          </p:nvPr>
        </p:nvSpPr>
        <p:spPr>
          <a:xfrm>
            <a:off x="687240" y="4714560"/>
            <a:ext cx="5483520" cy="4467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allo “Paladini</a:t>
            </a:r>
            <a:r>
              <a:rPr b="0" lang="es-ES" sz="1200" spc="-1" strike="noStrike">
                <a:solidFill>
                  <a:srgbClr val="000000"/>
                </a:solidFill>
                <a:latin typeface="Calibri"/>
              </a:rPr>
              <a:t>”: En el caso </a:t>
            </a:r>
            <a:r>
              <a:rPr b="0" i="1" lang="es-ES" sz="1200" spc="-1" strike="noStrike">
                <a:solidFill>
                  <a:srgbClr val="000000"/>
                </a:solidFill>
                <a:latin typeface="Calibri"/>
              </a:rPr>
              <a:t>“Frigorífico Paladini c/ AFIP”</a:t>
            </a:r>
            <a:r>
              <a:rPr b="0" lang="es-ES" sz="1200" spc="-1" strike="noStrike">
                <a:solidFill>
                  <a:srgbClr val="000000"/>
                </a:solidFill>
                <a:latin typeface="Calibri"/>
              </a:rPr>
              <a:t> la empresa llevó adelante una reorganización libre de impuestos y al comunicarla a la Administración Federal de Ingresos Públicos (“AFIP”) la calificó como fusión por absor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FIP rechazó la aplicación del régimen de reorganización libre de impuestos por entender que no se habían cumplido los requisitos previstos por la normativa para las fusiones por absorción. Puntualmente, entendió que no se había cumplido con lo establecido en el artículo 105 del DR, incisos I y II, que establecen que las empresas que se reorganicen deben estar en marcha y deben haber desarrollado actividades iguales o vinculadas durante los doce meses inmediatos anteriores a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ontribuyente presentó un recurso de apelación contra la decisión de la AFIP y solicitó se encauce su reorganización como efectuada dentro del mismo “conjunto económico”, figura que no exige el cumplimiento de esos requisitos. También fue denegado por la AFIP.</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anto el Juez de Primera Instancia como la Cámara Federal de Apelaciones de Rosario (la “Cámara”) confirmaron la posición de la AFIP. La Cámara entendió que no se habían cumplido los requisitos establecidos por la LIG y el DR para que una fusión sea calificada como “libre de impuestos” y no admitió el cambio a “conjunto económico”. Asimismo, entendió que aún de admitirse el cambio de encuadre, en el caso no se verificó el cumplimiento del requisito de mantenimiento de la actividad en la entidad continuadora por el término de dos años, contados a partir de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Corte Suprema de Justicia de la Nación, con fecha 2 de marzo de 2011, compartió los fundamentos del dictamen de la Procuración General de la Nación y revocó la sentencia de la Cámara. Entre los argumentos se destacan:</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plicación del principio de informalismo a favor del administrado, que rige en el derecho tributario; la mera circunstancia de que la actora no haya comunicado desde el inicio que la reorganización tuvo lugar dentro de un mismo “conjunto económico” no puede resultar fatal para su derecho. Entiende que la Cámara incurrió en un injustificado rigor formal.</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alcance del principio de la “realidad económica”: reconoce particular importancia al hecho económico frente a las formas, para evaluar el cumplimiento del requisito que exige que la entidad continuadora prosiga la actividad de la empresa reestructurada.</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rPr>
              <a:t>Dictámenes escisión – fusión</a:t>
            </a:r>
            <a:r>
              <a:rPr b="0" lang="es-AR" sz="1200" spc="-1" strike="noStrike">
                <a:solidFill>
                  <a:srgbClr val="000000"/>
                </a:solidFill>
                <a:latin typeface="Calibri"/>
              </a:rPr>
              <a:t>: Existen algunas opiniones del Fisco que permitieron la creación de una empresa constituida con el único propósito de obtener registros legales, fiscales y regulatorios, sin cumplir con el requisito de "Empresa en Marcha" para reorganizaciones libres de impuestos. La primera es la Opinión No. 23/2012, con fecha 23 de abril de 2012, en la cual la AFIP consideró que las empresas constituidas antes de la fecha de la reorganización no deberían cumplir con el requisito de Empresa en Marcha en la medida en que no poseyeran ningún atributo fiscal asociado (por ejemplo, pérdidas operativas netas y costos impositivos) hasta esa fecha. Las Autoridades Fiscales Argentinas aclararon este entendimiento afirmando que esta nueva empresa “…</a:t>
            </a:r>
            <a:r>
              <a:rPr b="0" i="1" lang="es-AR" sz="1200" spc="-1" strike="noStrike">
                <a:solidFill>
                  <a:srgbClr val="000000"/>
                </a:solidFill>
                <a:latin typeface="Calibri"/>
              </a:rPr>
              <a:t>debería tener al momento de la reorganización una situación patrimonial similar a la de la empresa que habría sido constituida por la división de los activos de la firma que se está escindiendo</a:t>
            </a:r>
            <a:r>
              <a:rPr b="0" lang="es-AR"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AFIP confirmó este entendimiento en la Opinión 2/2018, fechada el 30 de enero de 2018. Además, AFIP añadió que, para que no aplique el requisito de Empresa en Marcha, las empresas constituidas antes de una reorganización no deben haber realizado ninguna actividad hasta la fecha de la reorganización, ya que el inicio de actividades es precisamente la circunstancia que determina dicha fecha. Esta posición también fue ratificada en las siguientes opiniones: Opinión No. 30/2018, fechada el 20 de diciembre de 2018; Opinión 16/2019, fechada el 15 de mayo de 2019; y Opinión No. 5/2022, fechada el 23 de junio de 20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639582-6B6E-4B59-97AC-035EC9019D04}"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20600" y="744480"/>
            <a:ext cx="6616800" cy="3722760"/>
          </a:xfrm>
          <a:prstGeom prst="rect">
            <a:avLst/>
          </a:prstGeom>
          <a:ln w="0">
            <a:noFill/>
          </a:ln>
        </p:spPr>
      </p:sp>
      <p:sp>
        <p:nvSpPr>
          <p:cNvPr id="163" name="PlaceHolder 2"/>
          <p:cNvSpPr>
            <a:spLocks noGrp="1"/>
          </p:cNvSpPr>
          <p:nvPr>
            <p:ph type="body"/>
          </p:nvPr>
        </p:nvSpPr>
        <p:spPr>
          <a:xfrm>
            <a:off x="687240" y="4714560"/>
            <a:ext cx="5483520" cy="4467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allo “Paladini</a:t>
            </a:r>
            <a:r>
              <a:rPr b="0" lang="es-ES" sz="1200" spc="-1" strike="noStrike">
                <a:solidFill>
                  <a:srgbClr val="000000"/>
                </a:solidFill>
                <a:latin typeface="Calibri"/>
              </a:rPr>
              <a:t>”: En el caso </a:t>
            </a:r>
            <a:r>
              <a:rPr b="0" i="1" lang="es-ES" sz="1200" spc="-1" strike="noStrike">
                <a:solidFill>
                  <a:srgbClr val="000000"/>
                </a:solidFill>
                <a:latin typeface="Calibri"/>
              </a:rPr>
              <a:t>“Frigorífico Paladini c/ AFIP”</a:t>
            </a:r>
            <a:r>
              <a:rPr b="0" lang="es-ES" sz="1200" spc="-1" strike="noStrike">
                <a:solidFill>
                  <a:srgbClr val="000000"/>
                </a:solidFill>
                <a:latin typeface="Calibri"/>
              </a:rPr>
              <a:t> la empresa llevó adelante una reorganización libre de impuestos y al comunicarla a la Administración Federal de Ingresos Públicos (“AFIP”) la calificó como fusión por absor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FIP rechazó la aplicación del régimen de reorganización libre de impuestos por entender que no se habían cumplido los requisitos previstos por la normativa para las fusiones por absorción. Puntualmente, entendió que no se había cumplido con lo establecido en el artículo 105 del DR, incisos I y II, que establecen que las empresas que se reorganicen deben estar en marcha y deben haber desarrollado actividades iguales o vinculadas durante los doce meses inmediatos anteriores a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ontribuyente presentó un recurso de apelación contra la decisión de la AFIP y solicitó se encauce su reorganización como efectuada dentro del mismo “conjunto económico”, figura que no exige el cumplimiento de esos requisitos. También fue denegado por la AFIP.</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anto el Juez de Primera Instancia como la Cámara Federal de Apelaciones de Rosario (la “Cámara”) confirmaron la posición de la AFIP. La Cámara entendió que no se habían cumplido los requisitos establecidos por la LIG y el DR para que una fusión sea calificada como “libre de impuestos” y no admitió el cambio a “conjunto económico”. Asimismo, entendió que aún de admitirse el cambio de encuadre, en el caso no se verificó el cumplimiento del requisito de mantenimiento de la actividad en la entidad continuadora por el término de dos años, contados a partir de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Corte Suprema de Justicia de la Nación, con fecha 2 de marzo de 2011, compartió los fundamentos del dictamen de la Procuración General de la Nación y revocó la sentencia de la Cámara. Entre los argumentos se destacan:</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plicación del principio de informalismo a favor del administrado, que rige en el derecho tributario; la mera circunstancia de que la actora no haya comunicado desde el inicio que la reorganización tuvo lugar dentro de un mismo “conjunto económico” no puede resultar fatal para su derecho. Entiende que la Cámara incurrió en un injustificado rigor formal.</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alcance del principio de la “realidad económica”: reconoce particular importancia al hecho económico frente a las formas, para evaluar el cumplimiento del requisito que exige que la entidad continuadora prosiga la actividad de la empresa reestructurada.</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rPr>
              <a:t>Dictámenes escisión – fusión</a:t>
            </a:r>
            <a:r>
              <a:rPr b="0" lang="es-AR" sz="1200" spc="-1" strike="noStrike">
                <a:solidFill>
                  <a:srgbClr val="000000"/>
                </a:solidFill>
                <a:latin typeface="Calibri"/>
              </a:rPr>
              <a:t>: Existen algunas opiniones del Fisco que permitieron la creación de una empresa constituida con el único propósito de obtener registros legales, fiscales y regulatorios, sin cumplir con el requisito de "Empresa en Marcha" para reorganizaciones libres de impuestos. La primera es la Opinión No. 23/2012, con fecha 23 de abril de 2012, en la cual la AFIP consideró que las empresas constituidas antes de la fecha de la reorganización no deberían cumplir con el requisito de Empresa en Marcha en la medida en que no poseyeran ningún atributo fiscal asociado (por ejemplo, pérdidas operativas netas y costos impositivos) hasta esa fecha. Las Autoridades Fiscales Argentinas aclararon este entendimiento afirmando que esta nueva empresa “…</a:t>
            </a:r>
            <a:r>
              <a:rPr b="0" i="1" lang="es-AR" sz="1200" spc="-1" strike="noStrike">
                <a:solidFill>
                  <a:srgbClr val="000000"/>
                </a:solidFill>
                <a:latin typeface="Calibri"/>
              </a:rPr>
              <a:t>debería tener al momento de la reorganización una situación patrimonial similar a la de la empresa que habría sido constituida por la división de los activos de la firma que se está escindiendo</a:t>
            </a:r>
            <a:r>
              <a:rPr b="0" lang="es-AR"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AFIP confirmó este entendimiento en la Opinión 2/2018, fechada el 30 de enero de 2018. Además, AFIP añadió que, para que no aplique el requisito de Empresa en Marcha, las empresas constituidas antes de una reorganización no deben haber realizado ninguna actividad hasta la fecha de la reorganización, ya que el inicio de actividades es precisamente la circunstancia que determina dicha fecha. Esta posición también fue ratificada en las siguientes opiniones: Opinión No. 30/2018, fechada el 20 de diciembre de 2018; Opinión 16/2019, fechada el 15 de mayo de 2019; y Opinión No. 5/2022, fechada el 23 de junio de 20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453610-FACF-49FF-8CEE-950EEC193891}"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20600" y="744480"/>
            <a:ext cx="6616800" cy="3722760"/>
          </a:xfrm>
          <a:prstGeom prst="rect">
            <a:avLst/>
          </a:prstGeom>
          <a:ln w="0">
            <a:noFill/>
          </a:ln>
        </p:spPr>
      </p:sp>
      <p:sp>
        <p:nvSpPr>
          <p:cNvPr id="166" name="PlaceHolder 2"/>
          <p:cNvSpPr>
            <a:spLocks noGrp="1"/>
          </p:cNvSpPr>
          <p:nvPr>
            <p:ph type="body"/>
          </p:nvPr>
        </p:nvSpPr>
        <p:spPr>
          <a:xfrm>
            <a:off x="687240" y="4714560"/>
            <a:ext cx="54835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EEB8EA-0895-4A64-8074-1E78A72980EF}"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20600" y="744480"/>
            <a:ext cx="6616800" cy="3722760"/>
          </a:xfrm>
          <a:prstGeom prst="rect">
            <a:avLst/>
          </a:prstGeom>
          <a:ln w="0">
            <a:noFill/>
          </a:ln>
        </p:spPr>
      </p:sp>
      <p:sp>
        <p:nvSpPr>
          <p:cNvPr id="169" name="PlaceHolder 2"/>
          <p:cNvSpPr>
            <a:spLocks noGrp="1"/>
          </p:cNvSpPr>
          <p:nvPr>
            <p:ph type="body"/>
          </p:nvPr>
        </p:nvSpPr>
        <p:spPr>
          <a:xfrm>
            <a:off x="687240" y="4714560"/>
            <a:ext cx="54835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BB33B6-B3B4-4D58-9870-6FDB6DE6CA60}"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20600" y="744480"/>
            <a:ext cx="6616800" cy="3722760"/>
          </a:xfrm>
          <a:prstGeom prst="rect">
            <a:avLst/>
          </a:prstGeom>
          <a:ln w="0">
            <a:noFill/>
          </a:ln>
        </p:spPr>
      </p:sp>
      <p:sp>
        <p:nvSpPr>
          <p:cNvPr id="172" name="PlaceHolder 2"/>
          <p:cNvSpPr>
            <a:spLocks noGrp="1"/>
          </p:cNvSpPr>
          <p:nvPr>
            <p:ph type="body"/>
          </p:nvPr>
        </p:nvSpPr>
        <p:spPr>
          <a:xfrm>
            <a:off x="687240" y="4714560"/>
            <a:ext cx="5483520" cy="4467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allo “Paladini</a:t>
            </a:r>
            <a:r>
              <a:rPr b="0" lang="es-ES" sz="1200" spc="-1" strike="noStrike">
                <a:solidFill>
                  <a:srgbClr val="000000"/>
                </a:solidFill>
                <a:latin typeface="Calibri"/>
              </a:rPr>
              <a:t>”: En el caso </a:t>
            </a:r>
            <a:r>
              <a:rPr b="0" i="1" lang="es-ES" sz="1200" spc="-1" strike="noStrike">
                <a:solidFill>
                  <a:srgbClr val="000000"/>
                </a:solidFill>
                <a:latin typeface="Calibri"/>
              </a:rPr>
              <a:t>“Frigorífico Paladini c/ AFIP”</a:t>
            </a:r>
            <a:r>
              <a:rPr b="0" lang="es-ES" sz="1200" spc="-1" strike="noStrike">
                <a:solidFill>
                  <a:srgbClr val="000000"/>
                </a:solidFill>
                <a:latin typeface="Calibri"/>
              </a:rPr>
              <a:t> la empresa llevó adelante una reorganización libre de impuestos y al comunicarla a la Administración Federal de Ingresos Públicos (“AFIP”) la calificó como fusión por absor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FIP rechazó la aplicación del régimen de reorganización libre de impuestos por entender que no se habían cumplido los requisitos previstos por la normativa para las fusiones por absorción. Puntualmente, entendió que no se había cumplido con lo establecido en el artículo 105 del DR, incisos I y II, que establecen que las empresas que se reorganicen deben estar en marcha y deben haber desarrollado actividades iguales o vinculadas durante los doce meses inmediatos anteriores a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ontribuyente presentó un recurso de apelación contra la decisión de la AFIP y solicitó se encauce su reorganización como efectuada dentro del mismo “conjunto económico”, figura que no exige el cumplimiento de esos requisitos. También fue denegado por la AFIP.</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anto el Juez de Primera Instancia como la Cámara Federal de Apelaciones de Rosario (la “Cámara”) confirmaron la posición de la AFIP. La Cámara entendió que no se habían cumplido los requisitos establecidos por la LIG y el DR para que una fusión sea calificada como “libre de impuestos” y no admitió el cambio a “conjunto económico”. Asimismo, entendió que aún de admitirse el cambio de encuadre, en el caso no se verificó el cumplimiento del requisito de mantenimiento de la actividad en la entidad continuadora por el término de dos años, contados a partir de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Corte Suprema de Justicia de la Nación, con fecha 2 de marzo de 2011, compartió los fundamentos del dictamen de la Procuración General de la Nación y revocó la sentencia de la Cámara. Entre los argumentos se destacan:</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plicación del principio de informalismo a favor del administrado, que rige en el derecho tributario; la mera circunstancia de que la actora no haya comunicado desde el inicio que la reorganización tuvo lugar dentro de un mismo “conjunto económico” no puede resultar fatal para su derecho. Entiende que la Cámara incurrió en un injustificado rigor formal.</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alcance del principio de la “realidad económica”: reconoce particular importancia al hecho económico frente a las formas, para evaluar el cumplimiento del requisito que exige que la entidad continuadora prosiga la actividad de la empresa reestructurada.</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rPr>
              <a:t>Dictámenes escisión – fusión</a:t>
            </a:r>
            <a:r>
              <a:rPr b="0" lang="es-AR" sz="1200" spc="-1" strike="noStrike">
                <a:solidFill>
                  <a:srgbClr val="000000"/>
                </a:solidFill>
                <a:latin typeface="Calibri"/>
              </a:rPr>
              <a:t>: Existen algunas opiniones del Fisco que permitieron la creación de una empresa constituida con el único propósito de obtener registros legales, fiscales y regulatorios, sin cumplir con el requisito de "Empresa en Marcha" para reorganizaciones libres de impuestos. La primera es la Opinión No. 23/2012, con fecha 23 de abril de 2012, en la cual la AFIP consideró que las empresas constituidas antes de la fecha de la reorganización no deberían cumplir con el requisito de Empresa en Marcha en la medida en que no poseyeran ningún atributo fiscal asociado (por ejemplo, pérdidas operativas netas y costos impositivos) hasta esa fecha. Las Autoridades Fiscales Argentinas aclararon este entendimiento afirmando que esta nueva empresa “…</a:t>
            </a:r>
            <a:r>
              <a:rPr b="0" i="1" lang="es-AR" sz="1200" spc="-1" strike="noStrike">
                <a:solidFill>
                  <a:srgbClr val="000000"/>
                </a:solidFill>
                <a:latin typeface="Calibri"/>
              </a:rPr>
              <a:t>debería tener al momento de la reorganización una situación patrimonial similar a la de la empresa que habría sido constituida por la división de los activos de la firma que se está escindiendo</a:t>
            </a:r>
            <a:r>
              <a:rPr b="0" lang="es-AR"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AFIP confirmó este entendimiento en la Opinión 2/2018, fechada el 30 de enero de 2018. Además, AFIP añadió que, para que no aplique el requisito de Empresa en Marcha, las empresas constituidas antes de una reorganización no deben haber realizado ninguna actividad hasta la fecha de la reorganización, ya que el inicio de actividades es precisamente la circunstancia que determina dicha fecha. Esta posición también fue ratificada en las siguientes opiniones: Opinión No. 30/2018, fechada el 20 de diciembre de 2018; Opinión 16/2019, fechada el 15 de mayo de 2019; y Opinión No. 5/2022, fechada el 23 de junio de 20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A7F6D0-E5A9-4036-8E65-6A88141A9A00}"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20600" y="744480"/>
            <a:ext cx="6616800" cy="3722760"/>
          </a:xfrm>
          <a:prstGeom prst="rect">
            <a:avLst/>
          </a:prstGeom>
          <a:ln w="0">
            <a:noFill/>
          </a:ln>
        </p:spPr>
      </p:sp>
      <p:sp>
        <p:nvSpPr>
          <p:cNvPr id="145" name="PlaceHolder 2"/>
          <p:cNvSpPr>
            <a:spLocks noGrp="1"/>
          </p:cNvSpPr>
          <p:nvPr>
            <p:ph type="body"/>
          </p:nvPr>
        </p:nvSpPr>
        <p:spPr>
          <a:xfrm>
            <a:off x="687240" y="4714560"/>
            <a:ext cx="5483520" cy="4467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allo “Paladini</a:t>
            </a:r>
            <a:r>
              <a:rPr b="0" lang="es-ES" sz="1200" spc="-1" strike="noStrike">
                <a:solidFill>
                  <a:srgbClr val="000000"/>
                </a:solidFill>
                <a:latin typeface="Calibri"/>
              </a:rPr>
              <a:t>”: En el caso </a:t>
            </a:r>
            <a:r>
              <a:rPr b="0" i="1" lang="es-ES" sz="1200" spc="-1" strike="noStrike">
                <a:solidFill>
                  <a:srgbClr val="000000"/>
                </a:solidFill>
                <a:latin typeface="Calibri"/>
              </a:rPr>
              <a:t>“Frigorífico Paladini c/ AFIP”</a:t>
            </a:r>
            <a:r>
              <a:rPr b="0" lang="es-ES" sz="1200" spc="-1" strike="noStrike">
                <a:solidFill>
                  <a:srgbClr val="000000"/>
                </a:solidFill>
                <a:latin typeface="Calibri"/>
              </a:rPr>
              <a:t> la empresa llevó adelante una reorganización libre de impuestos y al comunicarla a la Administración Federal de Ingresos Públicos (“AFIP”) la calificó como fusión por absor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FIP rechazó la aplicación del régimen de reorganización libre de impuestos por entender que no se habían cumplido los requisitos previstos por la normativa para las fusiones por absorción. Puntualmente, entendió que no se había cumplido con lo establecido en el artículo 105 del DR, incisos I y II, que establecen que las empresas que se reorganicen deben estar en marcha y deben haber desarrollado actividades iguales o vinculadas durante los doce meses inmediatos anteriores a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ontribuyente presentó un recurso de apelación contra la decisión de la AFIP y solicitó se encauce su reorganización como efectuada dentro del mismo “conjunto económico”, figura que no exige el cumplimiento de esos requisitos. También fue denegado por la AFIP.</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anto el Juez de Primera Instancia como la Cámara Federal de Apelaciones de Rosario (la “Cámara”) confirmaron la posición de la AFIP. La Cámara entendió que no se habían cumplido los requisitos establecidos por la LIG y el DR para que una fusión sea calificada como “libre de impuestos” y no admitió el cambio a “conjunto económico”. Asimismo, entendió que aún de admitirse el cambio de encuadre, en el caso no se verificó el cumplimiento del requisito de mantenimiento de la actividad en la entidad continuadora por el término de dos años, contados a partir de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Corte Suprema de Justicia de la Nación, con fecha 2 de marzo de 2011, compartió los fundamentos del dictamen de la Procuración General de la Nación y revocó la sentencia de la Cámara. Entre los argumentos se destacan:</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plicación del principio de informalismo a favor del administrado, que rige en el derecho tributario; la mera circunstancia de que la actora no haya comunicado desde el inicio que la reorganización tuvo lugar dentro de un mismo “conjunto económico” no puede resultar fatal para su derecho. Entiende que la Cámara incurrió en un injustificado rigor formal.</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alcance del principio de la “realidad económica”: reconoce particular importancia al hecho económico frente a las formas, para evaluar el cumplimiento del requisito que exige que la entidad continuadora prosiga la actividad de la empresa reestructurada.</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rPr>
              <a:t>Dictámenes escisión – fusión</a:t>
            </a:r>
            <a:r>
              <a:rPr b="0" lang="es-AR" sz="1200" spc="-1" strike="noStrike">
                <a:solidFill>
                  <a:srgbClr val="000000"/>
                </a:solidFill>
                <a:latin typeface="Calibri"/>
              </a:rPr>
              <a:t>: Existen algunas opiniones del Fisco que permitieron la creación de una empresa constituida con el único propósito de obtener registros legales, fiscales y regulatorios, sin cumplir con el requisito de "Empresa en Marcha" para reorganizaciones libres de impuestos. La primera es la Opinión No. 23/2012, con fecha 23 de abril de 2012, en la cual la AFIP consideró que las empresas constituidas antes de la fecha de la reorganización no deberían cumplir con el requisito de Empresa en Marcha en la medida en que no poseyeran ningún atributo fiscal asociado (por ejemplo, pérdidas operativas netas y costos impositivos) hasta esa fecha. Las Autoridades Fiscales Argentinas aclararon este entendimiento afirmando que esta nueva empresa “…</a:t>
            </a:r>
            <a:r>
              <a:rPr b="0" i="1" lang="es-AR" sz="1200" spc="-1" strike="noStrike">
                <a:solidFill>
                  <a:srgbClr val="000000"/>
                </a:solidFill>
                <a:latin typeface="Calibri"/>
              </a:rPr>
              <a:t>debería tener al momento de la reorganización una situación patrimonial similar a la de la empresa que habría sido constituida por la división de los activos de la firma que se está escindiendo</a:t>
            </a:r>
            <a:r>
              <a:rPr b="0" lang="es-AR"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AFIP confirmó este entendimiento en la Opinión 2/2018, fechada el 30 de enero de 2018. Además, AFIP añadió que, para que no aplique el requisito de Empresa en Marcha, las empresas constituidas antes de una reorganización no deben haber realizado ninguna actividad hasta la fecha de la reorganización, ya que el inicio de actividades es precisamente la circunstancia que determina dicha fecha. Esta posición también fue ratificada en las siguientes opiniones: Opinión No. 30/2018, fechada el 20 de diciembre de 2018; Opinión 16/2019, fechada el 15 de mayo de 2019; y Opinión No. 5/2022, fechada el 23 de junio de 20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943B8E-405C-4AAC-A851-9D480C62AAF2}"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20600" y="744480"/>
            <a:ext cx="6616800" cy="3722760"/>
          </a:xfrm>
          <a:prstGeom prst="rect">
            <a:avLst/>
          </a:prstGeom>
          <a:ln w="0">
            <a:noFill/>
          </a:ln>
        </p:spPr>
      </p:sp>
      <p:sp>
        <p:nvSpPr>
          <p:cNvPr id="148" name="PlaceHolder 2"/>
          <p:cNvSpPr>
            <a:spLocks noGrp="1"/>
          </p:cNvSpPr>
          <p:nvPr>
            <p:ph type="body"/>
          </p:nvPr>
        </p:nvSpPr>
        <p:spPr>
          <a:xfrm>
            <a:off x="687240" y="4714560"/>
            <a:ext cx="5483520" cy="4467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allo “Paladini</a:t>
            </a:r>
            <a:r>
              <a:rPr b="0" lang="es-ES" sz="1200" spc="-1" strike="noStrike">
                <a:solidFill>
                  <a:srgbClr val="000000"/>
                </a:solidFill>
                <a:latin typeface="Calibri"/>
              </a:rPr>
              <a:t>”: En el caso </a:t>
            </a:r>
            <a:r>
              <a:rPr b="0" i="1" lang="es-ES" sz="1200" spc="-1" strike="noStrike">
                <a:solidFill>
                  <a:srgbClr val="000000"/>
                </a:solidFill>
                <a:latin typeface="Calibri"/>
              </a:rPr>
              <a:t>“Frigorífico Paladini c/ AFIP”</a:t>
            </a:r>
            <a:r>
              <a:rPr b="0" lang="es-ES" sz="1200" spc="-1" strike="noStrike">
                <a:solidFill>
                  <a:srgbClr val="000000"/>
                </a:solidFill>
                <a:latin typeface="Calibri"/>
              </a:rPr>
              <a:t> la empresa llevó adelante una reorganización libre de impuestos y al comunicarla a la Administración Federal de Ingresos Públicos (“AFIP”) la calificó como fusión por absor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FIP rechazó la aplicación del régimen de reorganización libre de impuestos por entender que no se habían cumplido los requisitos previstos por la normativa para las fusiones por absorción. Puntualmente, entendió que no se había cumplido con lo establecido en el artículo 105 del DR, incisos I y II, que establecen que las empresas que se reorganicen deben estar en marcha y deben haber desarrollado actividades iguales o vinculadas durante los doce meses inmediatos anteriores a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ontribuyente presentó un recurso de apelación contra la decisión de la AFIP y solicitó se encauce su reorganización como efectuada dentro del mismo “conjunto económico”, figura que no exige el cumplimiento de esos requisitos. También fue denegado por la AFIP.</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anto el Juez de Primera Instancia como la Cámara Federal de Apelaciones de Rosario (la “Cámara”) confirmaron la posición de la AFIP. La Cámara entendió que no se habían cumplido los requisitos establecidos por la LIG y el DR para que una fusión sea calificada como “libre de impuestos” y no admitió el cambio a “conjunto económico”. Asimismo, entendió que aún de admitirse el cambio de encuadre, en el caso no se verificó el cumplimiento del requisito de mantenimiento de la actividad en la entidad continuadora por el término de dos años, contados a partir de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Corte Suprema de Justicia de la Nación, con fecha 2 de marzo de 2011, compartió los fundamentos del dictamen de la Procuración General de la Nación y revocó la sentencia de la Cámara. Entre los argumentos se destacan:</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plicación del principio de informalismo a favor del administrado, que rige en el derecho tributario; la mera circunstancia de que la actora no haya comunicado desde el inicio que la reorganización tuvo lugar dentro de un mismo “conjunto económico” no puede resultar fatal para su derecho. Entiende que la Cámara incurrió en un injustificado rigor formal.</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alcance del principio de la “realidad económica”: reconoce particular importancia al hecho económico frente a las formas, para evaluar el cumplimiento del requisito que exige que la entidad continuadora prosiga la actividad de la empresa reestructurada.</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rPr>
              <a:t>Dictámenes escisión – fusión</a:t>
            </a:r>
            <a:r>
              <a:rPr b="0" lang="es-AR" sz="1200" spc="-1" strike="noStrike">
                <a:solidFill>
                  <a:srgbClr val="000000"/>
                </a:solidFill>
                <a:latin typeface="Calibri"/>
              </a:rPr>
              <a:t>: Existen algunas opiniones del Fisco que permitieron la creación de una empresa constituida con el único propósito de obtener registros legales, fiscales y regulatorios, sin cumplir con el requisito de "Empresa en Marcha" para reorganizaciones libres de impuestos. La primera es la Opinión No. 23/2012, con fecha 23 de abril de 2012, en la cual la AFIP consideró que las empresas constituidas antes de la fecha de la reorganización no deberían cumplir con el requisito de Empresa en Marcha en la medida en que no poseyeran ningún atributo fiscal asociado (por ejemplo, pérdidas operativas netas y costos impositivos) hasta esa fecha. Las Autoridades Fiscales Argentinas aclararon este entendimiento afirmando que esta nueva empresa “…</a:t>
            </a:r>
            <a:r>
              <a:rPr b="0" i="1" lang="es-AR" sz="1200" spc="-1" strike="noStrike">
                <a:solidFill>
                  <a:srgbClr val="000000"/>
                </a:solidFill>
                <a:latin typeface="Calibri"/>
              </a:rPr>
              <a:t>debería tener al momento de la reorganización una situación patrimonial similar a la de la empresa que habría sido constituida por la división de los activos de la firma que se está escindiendo</a:t>
            </a:r>
            <a:r>
              <a:rPr b="0" lang="es-AR"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AFIP confirmó este entendimiento en la Opinión 2/2018, fechada el 30 de enero de 2018. Además, AFIP añadió que, para que no aplique el requisito de Empresa en Marcha, las empresas constituidas antes de una reorganización no deben haber realizado ninguna actividad hasta la fecha de la reorganización, ya que el inicio de actividades es precisamente la circunstancia que determina dicha fecha. Esta posición también fue ratificada en las siguientes opiniones: Opinión No. 30/2018, fechada el 20 de diciembre de 2018; Opinión 16/2019, fechada el 15 de mayo de 2019; y Opinión No. 5/2022, fechada el 23 de junio de 20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47BC04-25F4-408D-80FF-92B4AF9AD306}"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20600" y="744480"/>
            <a:ext cx="6616800" cy="3722760"/>
          </a:xfrm>
          <a:prstGeom prst="rect">
            <a:avLst/>
          </a:prstGeom>
          <a:ln w="0">
            <a:noFill/>
          </a:ln>
        </p:spPr>
      </p:sp>
      <p:sp>
        <p:nvSpPr>
          <p:cNvPr id="151" name="PlaceHolder 2"/>
          <p:cNvSpPr>
            <a:spLocks noGrp="1"/>
          </p:cNvSpPr>
          <p:nvPr>
            <p:ph type="body"/>
          </p:nvPr>
        </p:nvSpPr>
        <p:spPr>
          <a:xfrm>
            <a:off x="687240" y="4714560"/>
            <a:ext cx="5483520" cy="4467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allo “Paladini</a:t>
            </a:r>
            <a:r>
              <a:rPr b="0" lang="es-ES" sz="1200" spc="-1" strike="noStrike">
                <a:solidFill>
                  <a:srgbClr val="000000"/>
                </a:solidFill>
                <a:latin typeface="Calibri"/>
              </a:rPr>
              <a:t>”: En el caso </a:t>
            </a:r>
            <a:r>
              <a:rPr b="0" i="1" lang="es-ES" sz="1200" spc="-1" strike="noStrike">
                <a:solidFill>
                  <a:srgbClr val="000000"/>
                </a:solidFill>
                <a:latin typeface="Calibri"/>
              </a:rPr>
              <a:t>“Frigorífico Paladini c/ AFIP”</a:t>
            </a:r>
            <a:r>
              <a:rPr b="0" lang="es-ES" sz="1200" spc="-1" strike="noStrike">
                <a:solidFill>
                  <a:srgbClr val="000000"/>
                </a:solidFill>
                <a:latin typeface="Calibri"/>
              </a:rPr>
              <a:t> la empresa llevó adelante una reorganización libre de impuestos y al comunicarla a la Administración Federal de Ingresos Públicos (“AFIP”) la calificó como fusión por absor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FIP rechazó la aplicación del régimen de reorganización libre de impuestos por entender que no se habían cumplido los requisitos previstos por la normativa para las fusiones por absorción. Puntualmente, entendió que no se había cumplido con lo establecido en el artículo 105 del DR, incisos I y II, que establecen que las empresas que se reorganicen deben estar en marcha y deben haber desarrollado actividades iguales o vinculadas durante los doce meses inmediatos anteriores a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ontribuyente presentó un recurso de apelación contra la decisión de la AFIP y solicitó se encauce su reorganización como efectuada dentro del mismo “conjunto económico”, figura que no exige el cumplimiento de esos requisitos. También fue denegado por la AFIP.</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anto el Juez de Primera Instancia como la Cámara Federal de Apelaciones de Rosario (la “Cámara”) confirmaron la posición de la AFIP. La Cámara entendió que no se habían cumplido los requisitos establecidos por la LIG y el DR para que una fusión sea calificada como “libre de impuestos” y no admitió el cambio a “conjunto económico”. Asimismo, entendió que aún de admitirse el cambio de encuadre, en el caso no se verificó el cumplimiento del requisito de mantenimiento de la actividad en la entidad continuadora por el término de dos años, contados a partir de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Corte Suprema de Justicia de la Nación, con fecha 2 de marzo de 2011, compartió los fundamentos del dictamen de la Procuración General de la Nación y revocó la sentencia de la Cámara. Entre los argumentos se destacan:</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plicación del principio de informalismo a favor del administrado, que rige en el derecho tributario; la mera circunstancia de que la actora no haya comunicado desde el inicio que la reorganización tuvo lugar dentro de un mismo “conjunto económico” no puede resultar fatal para su derecho. Entiende que la Cámara incurrió en un injustificado rigor formal.</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alcance del principio de la “realidad económica”: reconoce particular importancia al hecho económico frente a las formas, para evaluar el cumplimiento del requisito que exige que la entidad continuadora prosiga la actividad de la empresa reestructurada.</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rPr>
              <a:t>Dictámenes escisión – fusión</a:t>
            </a:r>
            <a:r>
              <a:rPr b="0" lang="es-AR" sz="1200" spc="-1" strike="noStrike">
                <a:solidFill>
                  <a:srgbClr val="000000"/>
                </a:solidFill>
                <a:latin typeface="Calibri"/>
              </a:rPr>
              <a:t>: Existen algunas opiniones del Fisco que permitieron la creación de una empresa constituida con el único propósito de obtener registros legales, fiscales y regulatorios, sin cumplir con el requisito de "Empresa en Marcha" para reorganizaciones libres de impuestos. La primera es la Opinión No. 23/2012, con fecha 23 de abril de 2012, en la cual la AFIP consideró que las empresas constituidas antes de la fecha de la reorganización no deberían cumplir con el requisito de Empresa en Marcha en la medida en que no poseyeran ningún atributo fiscal asociado (por ejemplo, pérdidas operativas netas y costos impositivos) hasta esa fecha. Las Autoridades Fiscales Argentinas aclararon este entendimiento afirmando que esta nueva empresa “…</a:t>
            </a:r>
            <a:r>
              <a:rPr b="0" i="1" lang="es-AR" sz="1200" spc="-1" strike="noStrike">
                <a:solidFill>
                  <a:srgbClr val="000000"/>
                </a:solidFill>
                <a:latin typeface="Calibri"/>
              </a:rPr>
              <a:t>debería tener al momento de la reorganización una situación patrimonial similar a la de la empresa que habría sido constituida por la división de los activos de la firma que se está escindiendo</a:t>
            </a:r>
            <a:r>
              <a:rPr b="0" lang="es-AR"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AFIP confirmó este entendimiento en la Opinión 2/2018, fechada el 30 de enero de 2018. Además, AFIP añadió que, para que no aplique el requisito de Empresa en Marcha, las empresas constituidas antes de una reorganización no deben haber realizado ninguna actividad hasta la fecha de la reorganización, ya que el inicio de actividades es precisamente la circunstancia que determina dicha fecha. Esta posición también fue ratificada en las siguientes opiniones: Opinión No. 30/2018, fechada el 20 de diciembre de 2018; Opinión 16/2019, fechada el 15 de mayo de 2019; y Opinión No. 5/2022, fechada el 23 de junio de 20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8AAC3C-E5BA-4D3F-B934-86AFEBB21D6D}"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20600" y="744480"/>
            <a:ext cx="6616800" cy="3722760"/>
          </a:xfrm>
          <a:prstGeom prst="rect">
            <a:avLst/>
          </a:prstGeom>
          <a:ln w="0">
            <a:noFill/>
          </a:ln>
        </p:spPr>
      </p:sp>
      <p:sp>
        <p:nvSpPr>
          <p:cNvPr id="154" name="PlaceHolder 2"/>
          <p:cNvSpPr>
            <a:spLocks noGrp="1"/>
          </p:cNvSpPr>
          <p:nvPr>
            <p:ph type="body"/>
          </p:nvPr>
        </p:nvSpPr>
        <p:spPr>
          <a:xfrm>
            <a:off x="687240" y="4714560"/>
            <a:ext cx="5483520" cy="4467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allo “Paladini</a:t>
            </a:r>
            <a:r>
              <a:rPr b="0" lang="es-ES" sz="1200" spc="-1" strike="noStrike">
                <a:solidFill>
                  <a:srgbClr val="000000"/>
                </a:solidFill>
                <a:latin typeface="Calibri"/>
              </a:rPr>
              <a:t>”: En el caso </a:t>
            </a:r>
            <a:r>
              <a:rPr b="0" i="1" lang="es-ES" sz="1200" spc="-1" strike="noStrike">
                <a:solidFill>
                  <a:srgbClr val="000000"/>
                </a:solidFill>
                <a:latin typeface="Calibri"/>
              </a:rPr>
              <a:t>“Frigorífico Paladini c/ AFIP”</a:t>
            </a:r>
            <a:r>
              <a:rPr b="0" lang="es-ES" sz="1200" spc="-1" strike="noStrike">
                <a:solidFill>
                  <a:srgbClr val="000000"/>
                </a:solidFill>
                <a:latin typeface="Calibri"/>
              </a:rPr>
              <a:t> la empresa llevó adelante una reorganización libre de impuestos y al comunicarla a la Administración Federal de Ingresos Públicos (“AFIP”) la calificó como fusión por absor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FIP rechazó la aplicación del régimen de reorganización libre de impuestos por entender que no se habían cumplido los requisitos previstos por la normativa para las fusiones por absorción. Puntualmente, entendió que no se había cumplido con lo establecido en el artículo 105 del DR, incisos I y II, que establecen que las empresas que se reorganicen deben estar en marcha y deben haber desarrollado actividades iguales o vinculadas durante los doce meses inmediatos anteriores a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ontribuyente presentó un recurso de apelación contra la decisión de la AFIP y solicitó se encauce su reorganización como efectuada dentro del mismo “conjunto económico”, figura que no exige el cumplimiento de esos requisitos. También fue denegado por la AFIP.</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anto el Juez de Primera Instancia como la Cámara Federal de Apelaciones de Rosario (la “Cámara”) confirmaron la posición de la AFIP. La Cámara entendió que no se habían cumplido los requisitos establecidos por la LIG y el DR para que una fusión sea calificada como “libre de impuestos” y no admitió el cambio a “conjunto económico”. Asimismo, entendió que aún de admitirse el cambio de encuadre, en el caso no se verificó el cumplimiento del requisito de mantenimiento de la actividad en la entidad continuadora por el término de dos años, contados a partir de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Corte Suprema de Justicia de la Nación, con fecha 2 de marzo de 2011, compartió los fundamentos del dictamen de la Procuración General de la Nación y revocó la sentencia de la Cámara. Entre los argumentos se destacan:</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plicación del principio de informalismo a favor del administrado, que rige en el derecho tributario; la mera circunstancia de que la actora no haya comunicado desde el inicio que la reorganización tuvo lugar dentro de un mismo “conjunto económico” no puede resultar fatal para su derecho. Entiende que la Cámara incurrió en un injustificado rigor formal.</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alcance del principio de la “realidad económica”: reconoce particular importancia al hecho económico frente a las formas, para evaluar el cumplimiento del requisito que exige que la entidad continuadora prosiga la actividad de la empresa reestructurada.</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rPr>
              <a:t>Dictámenes escisión – fusión</a:t>
            </a:r>
            <a:r>
              <a:rPr b="0" lang="es-AR" sz="1200" spc="-1" strike="noStrike">
                <a:solidFill>
                  <a:srgbClr val="000000"/>
                </a:solidFill>
                <a:latin typeface="Calibri"/>
              </a:rPr>
              <a:t>: Existen algunas opiniones del Fisco que permitieron la creación de una empresa constituida con el único propósito de obtener registros legales, fiscales y regulatorios, sin cumplir con el requisito de "Empresa en Marcha" para reorganizaciones libres de impuestos. La primera es la Opinión No. 23/2012, con fecha 23 de abril de 2012, en la cual la AFIP consideró que las empresas constituidas antes de la fecha de la reorganización no deberían cumplir con el requisito de Empresa en Marcha en la medida en que no poseyeran ningún atributo fiscal asociado (por ejemplo, pérdidas operativas netas y costos impositivos) hasta esa fecha. Las Autoridades Fiscales Argentinas aclararon este entendimiento afirmando que esta nueva empresa “…</a:t>
            </a:r>
            <a:r>
              <a:rPr b="0" i="1" lang="es-AR" sz="1200" spc="-1" strike="noStrike">
                <a:solidFill>
                  <a:srgbClr val="000000"/>
                </a:solidFill>
                <a:latin typeface="Calibri"/>
              </a:rPr>
              <a:t>debería tener al momento de la reorganización una situación patrimonial similar a la de la empresa que habría sido constituida por la división de los activos de la firma que se está escindiendo</a:t>
            </a:r>
            <a:r>
              <a:rPr b="0" lang="es-AR"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AFIP confirmó este entendimiento en la Opinión 2/2018, fechada el 30 de enero de 2018. Además, AFIP añadió que, para que no aplique el requisito de Empresa en Marcha, las empresas constituidas antes de una reorganización no deben haber realizado ninguna actividad hasta la fecha de la reorganización, ya que el inicio de actividades es precisamente la circunstancia que determina dicha fecha. Esta posición también fue ratificada en las siguientes opiniones: Opinión No. 30/2018, fechada el 20 de diciembre de 2018; Opinión 16/2019, fechada el 15 de mayo de 2019; y Opinión No. 5/2022, fechada el 23 de junio de 20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7DFEB8-33C0-47CC-A80C-4EB52A18CB78}"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20600" y="744480"/>
            <a:ext cx="6616800" cy="3722760"/>
          </a:xfrm>
          <a:prstGeom prst="rect">
            <a:avLst/>
          </a:prstGeom>
          <a:ln w="0">
            <a:noFill/>
          </a:ln>
        </p:spPr>
      </p:sp>
      <p:sp>
        <p:nvSpPr>
          <p:cNvPr id="157" name="PlaceHolder 2"/>
          <p:cNvSpPr>
            <a:spLocks noGrp="1"/>
          </p:cNvSpPr>
          <p:nvPr>
            <p:ph type="body"/>
          </p:nvPr>
        </p:nvSpPr>
        <p:spPr>
          <a:xfrm>
            <a:off x="687240" y="4714560"/>
            <a:ext cx="5483520" cy="4467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alibri"/>
              </a:rPr>
              <a:t>Fallo “Paladini</a:t>
            </a:r>
            <a:r>
              <a:rPr b="0" lang="es-ES" sz="1200" spc="-1" strike="noStrike">
                <a:solidFill>
                  <a:srgbClr val="000000"/>
                </a:solidFill>
                <a:latin typeface="Calibri"/>
              </a:rPr>
              <a:t>”: En el caso </a:t>
            </a:r>
            <a:r>
              <a:rPr b="0" i="1" lang="es-ES" sz="1200" spc="-1" strike="noStrike">
                <a:solidFill>
                  <a:srgbClr val="000000"/>
                </a:solidFill>
                <a:latin typeface="Calibri"/>
              </a:rPr>
              <a:t>“Frigorífico Paladini c/ AFIP”</a:t>
            </a:r>
            <a:r>
              <a:rPr b="0" lang="es-ES" sz="1200" spc="-1" strike="noStrike">
                <a:solidFill>
                  <a:srgbClr val="000000"/>
                </a:solidFill>
                <a:latin typeface="Calibri"/>
              </a:rPr>
              <a:t> la empresa llevó adelante una reorganización libre de impuestos y al comunicarla a la Administración Federal de Ingresos Públicos (“AFIP”) la calificó como fusión por absor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FIP rechazó la aplicación del régimen de reorganización libre de impuestos por entender que no se habían cumplido los requisitos previstos por la normativa para las fusiones por absorción. Puntualmente, entendió que no se había cumplido con lo establecido en el artículo 105 del DR, incisos I y II, que establecen que las empresas que se reorganicen deben estar en marcha y deben haber desarrollado actividades iguales o vinculadas durante los doce meses inmediatos anteriores a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ontribuyente presentó un recurso de apelación contra la decisión de la AFIP y solicitó se encauce su reorganización como efectuada dentro del mismo “conjunto económico”, figura que no exige el cumplimiento de esos requisitos. También fue denegado por la AFIP.</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Tanto el Juez de Primera Instancia como la Cámara Federal de Apelaciones de Rosario (la “Cámara”) confirmaron la posición de la AFIP. La Cámara entendió que no se habían cumplido los requisitos establecidos por la LIG y el DR para que una fusión sea calificada como “libre de impuestos” y no admitió el cambio a “conjunto económico”. Asimismo, entendió que aún de admitirse el cambio de encuadre, en el caso no se verificó el cumplimiento del requisito de mantenimiento de la actividad en la entidad continuadora por el término de dos años, contados a partir de la fecha de reorganización.</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Corte Suprema de Justicia de la Nación, con fecha 2 de marzo de 2011, compartió los fundamentos del dictamen de la Procuración General de la Nación y revocó la sentencia de la Cámara. Entre los argumentos se destacan:</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aplicación del principio de informalismo a favor del administrado, que rige en el derecho tributario; la mera circunstancia de que la actora no haya comunicado desde el inicio que la reorganización tuvo lugar dentro de un mismo “conjunto económico” no puede resultar fatal para su derecho. Entiende que la Cámara incurrió en un injustificado rigor formal.</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alcance del principio de la “realidad económica”: reconoce particular importancia al hecho económico frente a las formas, para evaluar el cumplimiento del requisito que exige que la entidad continuadora prosiga la actividad de la empresa reestructurada.</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rPr>
              <a:t>Dictámenes escisión – fusión</a:t>
            </a:r>
            <a:r>
              <a:rPr b="0" lang="es-AR" sz="1200" spc="-1" strike="noStrike">
                <a:solidFill>
                  <a:srgbClr val="000000"/>
                </a:solidFill>
                <a:latin typeface="Calibri"/>
              </a:rPr>
              <a:t>: Existen algunas opiniones del Fisco que permitieron la creación de una empresa constituida con el único propósito de obtener registros legales, fiscales y regulatorios, sin cumplir con el requisito de "Empresa en Marcha" para reorganizaciones libres de impuestos. La primera es la Opinión No. 23/2012, con fecha 23 de abril de 2012, en la cual la AFIP consideró que las empresas constituidas antes de la fecha de la reorganización no deberían cumplir con el requisito de Empresa en Marcha en la medida en que no poseyeran ningún atributo fiscal asociado (por ejemplo, pérdidas operativas netas y costos impositivos) hasta esa fecha. Las Autoridades Fiscales Argentinas aclararon este entendimiento afirmando que esta nueva empresa “…</a:t>
            </a:r>
            <a:r>
              <a:rPr b="0" i="1" lang="es-AR" sz="1200" spc="-1" strike="noStrike">
                <a:solidFill>
                  <a:srgbClr val="000000"/>
                </a:solidFill>
                <a:latin typeface="Calibri"/>
              </a:rPr>
              <a:t>debería tener al momento de la reorganización una situación patrimonial similar a la de la empresa que habría sido constituida por la división de los activos de la firma que se está escindiendo</a:t>
            </a:r>
            <a:r>
              <a:rPr b="0" lang="es-AR"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Calibri"/>
              </a:rPr>
              <a:t>AFIP confirmó este entendimiento en la Opinión 2/2018, fechada el 30 de enero de 2018. Además, AFIP añadió que, para que no aplique el requisito de Empresa en Marcha, las empresas constituidas antes de una reorganización no deben haber realizado ninguna actividad hasta la fecha de la reorganización, ya que el inicio de actividades es precisamente la circunstancia que determina dicha fecha. Esta posición también fue ratificada en las siguientes opiniones: Opinión No. 30/2018, fechada el 20 de diciembre de 2018; Opinión 16/2019, fechada el 15 de mayo de 2019; y Opinión No. 5/2022, fechada el 23 de junio de 20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Marcador de número de diapositiva 3"/>
          <p:cNvSpPr/>
          <p:nvPr/>
        </p:nvSpPr>
        <p:spPr>
          <a:xfrm>
            <a:off x="3884760" y="9429840"/>
            <a:ext cx="2971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A21F81-E3E5-4BF2-8AE8-5FA5721A5016}" type="slidenum">
              <a:rPr b="0" lang="es-A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3955AE-8F0A-4FC8-8E55-6FBE061DA7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609480" y="1600200"/>
            <a:ext cx="1096992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609480" y="3964320"/>
            <a:ext cx="1096992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1EF290-F825-412A-B6F7-B7CFB096DA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6094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62308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609480" y="396432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6230880" y="396432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9FAA45-F57E-4C6A-896F-6B152CDC49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609480" y="160020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4318560" y="160020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8027280" y="160020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609480" y="396432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4318560" y="396432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8027280" y="396432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D562FD-248A-43A2-8682-F3DF268112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609480" y="1600200"/>
            <a:ext cx="1096992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609480" y="1600200"/>
            <a:ext cx="1096992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 name="PlaceHolder 2"/>
          <p:cNvSpPr>
            <a:spLocks noGrp="1"/>
          </p:cNvSpPr>
          <p:nvPr>
            <p:ph/>
          </p:nvPr>
        </p:nvSpPr>
        <p:spPr>
          <a:xfrm>
            <a:off x="609480" y="1600200"/>
            <a:ext cx="53532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 name="PlaceHolder 3"/>
          <p:cNvSpPr>
            <a:spLocks noGrp="1"/>
          </p:cNvSpPr>
          <p:nvPr>
            <p:ph/>
          </p:nvPr>
        </p:nvSpPr>
        <p:spPr>
          <a:xfrm>
            <a:off x="6230880" y="1600200"/>
            <a:ext cx="53532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480" y="274320"/>
            <a:ext cx="109699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 name="PlaceHolder 2"/>
          <p:cNvSpPr>
            <a:spLocks noGrp="1"/>
          </p:cNvSpPr>
          <p:nvPr>
            <p:ph/>
          </p:nvPr>
        </p:nvSpPr>
        <p:spPr>
          <a:xfrm>
            <a:off x="6094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 name="PlaceHolder 3"/>
          <p:cNvSpPr>
            <a:spLocks noGrp="1"/>
          </p:cNvSpPr>
          <p:nvPr>
            <p:ph/>
          </p:nvPr>
        </p:nvSpPr>
        <p:spPr>
          <a:xfrm>
            <a:off x="6230880" y="1600200"/>
            <a:ext cx="53532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4"/>
          <p:cNvSpPr>
            <a:spLocks noGrp="1"/>
          </p:cNvSpPr>
          <p:nvPr>
            <p:ph/>
          </p:nvPr>
        </p:nvSpPr>
        <p:spPr>
          <a:xfrm>
            <a:off x="609480" y="396432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609480" y="1600200"/>
            <a:ext cx="1096992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192B22-A72C-4CE9-B2B7-05223F2824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 name="PlaceHolder 2"/>
          <p:cNvSpPr>
            <a:spLocks noGrp="1"/>
          </p:cNvSpPr>
          <p:nvPr>
            <p:ph/>
          </p:nvPr>
        </p:nvSpPr>
        <p:spPr>
          <a:xfrm>
            <a:off x="609480" y="1600200"/>
            <a:ext cx="53532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3"/>
          <p:cNvSpPr>
            <a:spLocks noGrp="1"/>
          </p:cNvSpPr>
          <p:nvPr>
            <p:ph/>
          </p:nvPr>
        </p:nvSpPr>
        <p:spPr>
          <a:xfrm>
            <a:off x="62308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 name="PlaceHolder 4"/>
          <p:cNvSpPr>
            <a:spLocks noGrp="1"/>
          </p:cNvSpPr>
          <p:nvPr>
            <p:ph/>
          </p:nvPr>
        </p:nvSpPr>
        <p:spPr>
          <a:xfrm>
            <a:off x="6230880" y="396432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 name="PlaceHolder 2"/>
          <p:cNvSpPr>
            <a:spLocks noGrp="1"/>
          </p:cNvSpPr>
          <p:nvPr>
            <p:ph/>
          </p:nvPr>
        </p:nvSpPr>
        <p:spPr>
          <a:xfrm>
            <a:off x="6094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3"/>
          <p:cNvSpPr>
            <a:spLocks noGrp="1"/>
          </p:cNvSpPr>
          <p:nvPr>
            <p:ph/>
          </p:nvPr>
        </p:nvSpPr>
        <p:spPr>
          <a:xfrm>
            <a:off x="62308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 name="PlaceHolder 4"/>
          <p:cNvSpPr>
            <a:spLocks noGrp="1"/>
          </p:cNvSpPr>
          <p:nvPr>
            <p:ph/>
          </p:nvPr>
        </p:nvSpPr>
        <p:spPr>
          <a:xfrm>
            <a:off x="609480" y="3964320"/>
            <a:ext cx="1096992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 name="PlaceHolder 2"/>
          <p:cNvSpPr>
            <a:spLocks noGrp="1"/>
          </p:cNvSpPr>
          <p:nvPr>
            <p:ph/>
          </p:nvPr>
        </p:nvSpPr>
        <p:spPr>
          <a:xfrm>
            <a:off x="609480" y="1600200"/>
            <a:ext cx="1096992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3"/>
          <p:cNvSpPr>
            <a:spLocks noGrp="1"/>
          </p:cNvSpPr>
          <p:nvPr>
            <p:ph/>
          </p:nvPr>
        </p:nvSpPr>
        <p:spPr>
          <a:xfrm>
            <a:off x="609480" y="3964320"/>
            <a:ext cx="1096992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6094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62308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 name="PlaceHolder 4"/>
          <p:cNvSpPr>
            <a:spLocks noGrp="1"/>
          </p:cNvSpPr>
          <p:nvPr>
            <p:ph/>
          </p:nvPr>
        </p:nvSpPr>
        <p:spPr>
          <a:xfrm>
            <a:off x="609480" y="396432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 name="PlaceHolder 5"/>
          <p:cNvSpPr>
            <a:spLocks noGrp="1"/>
          </p:cNvSpPr>
          <p:nvPr>
            <p:ph/>
          </p:nvPr>
        </p:nvSpPr>
        <p:spPr>
          <a:xfrm>
            <a:off x="6230880" y="396432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 name="PlaceHolder 2"/>
          <p:cNvSpPr>
            <a:spLocks noGrp="1"/>
          </p:cNvSpPr>
          <p:nvPr>
            <p:ph/>
          </p:nvPr>
        </p:nvSpPr>
        <p:spPr>
          <a:xfrm>
            <a:off x="609480" y="160020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3"/>
          <p:cNvSpPr>
            <a:spLocks noGrp="1"/>
          </p:cNvSpPr>
          <p:nvPr>
            <p:ph/>
          </p:nvPr>
        </p:nvSpPr>
        <p:spPr>
          <a:xfrm>
            <a:off x="4318560" y="160020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4"/>
          <p:cNvSpPr>
            <a:spLocks noGrp="1"/>
          </p:cNvSpPr>
          <p:nvPr>
            <p:ph/>
          </p:nvPr>
        </p:nvSpPr>
        <p:spPr>
          <a:xfrm>
            <a:off x="8027280" y="160020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5"/>
          <p:cNvSpPr>
            <a:spLocks noGrp="1"/>
          </p:cNvSpPr>
          <p:nvPr>
            <p:ph/>
          </p:nvPr>
        </p:nvSpPr>
        <p:spPr>
          <a:xfrm>
            <a:off x="609480" y="396432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6"/>
          <p:cNvSpPr>
            <a:spLocks noGrp="1"/>
          </p:cNvSpPr>
          <p:nvPr>
            <p:ph/>
          </p:nvPr>
        </p:nvSpPr>
        <p:spPr>
          <a:xfrm>
            <a:off x="4318560" y="396432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7"/>
          <p:cNvSpPr>
            <a:spLocks noGrp="1"/>
          </p:cNvSpPr>
          <p:nvPr>
            <p:ph/>
          </p:nvPr>
        </p:nvSpPr>
        <p:spPr>
          <a:xfrm>
            <a:off x="8027280" y="3964320"/>
            <a:ext cx="353196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609480" y="1600200"/>
            <a:ext cx="1096992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0ED65D-0BBF-484E-B158-5A0B46B281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609480" y="1600200"/>
            <a:ext cx="53532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6230880" y="1600200"/>
            <a:ext cx="53532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FF2603-7C51-4DFF-88A1-E3C19A151A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617EB3-B47D-4AF1-B39F-90A7ADEE25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274320"/>
            <a:ext cx="109699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3B4CA6-2425-474A-BE3E-0BA52D9316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6094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6230880" y="1600200"/>
            <a:ext cx="53532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609480" y="396432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42BB3C-494E-41AF-AC3F-25F2EB6C2C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609480" y="1600200"/>
            <a:ext cx="53532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62308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6230880" y="396432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8B076A-BA8B-4BE3-A7EF-52B6CA5C0F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6094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6230880" y="1600200"/>
            <a:ext cx="53532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609480" y="3964320"/>
            <a:ext cx="1096992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411094-C537-40F2-871B-A86F3FD4FD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609480" y="1600200"/>
            <a:ext cx="109699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09480" y="6356520"/>
            <a:ext cx="28432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60A985-FD91-4FA4-9B8D-A8EC3556A5AA}" type="datetime">
              <a:rPr b="0" lang="en-US" sz="1200" spc="-1" strike="noStrike">
                <a:solidFill>
                  <a:srgbClr val="898989"/>
                </a:solidFill>
                <a:latin typeface="Calibri"/>
              </a:rPr>
              <a:t>07/28/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4164120" y="6356520"/>
            <a:ext cx="38606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736120" y="6356520"/>
            <a:ext cx="28432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DA2182-7A7D-4DFC-8F20-CB8335FDCFA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274320"/>
            <a:ext cx="1096992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609480" y="1600200"/>
            <a:ext cx="109699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image" Target="../media/image1.jpeg"/><Relationship Id="rId8" Type="http://schemas.openxmlformats.org/officeDocument/2006/relationships/image" Target="../media/image1.jpeg"/><Relationship Id="rId9" Type="http://schemas.openxmlformats.org/officeDocument/2006/relationships/image" Target="../media/image1.jpeg"/><Relationship Id="rId10" Type="http://schemas.openxmlformats.org/officeDocument/2006/relationships/image" Target="../media/image1.jpeg"/><Relationship Id="rId11" Type="http://schemas.openxmlformats.org/officeDocument/2006/relationships/image" Target="../media/image2.png"/><Relationship Id="rId1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1D969A-CD8A-40E9-A85B-FB4764A9E4FE}"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87" name="Rectángulo 4"/>
          <p:cNvSpPr/>
          <p:nvPr/>
        </p:nvSpPr>
        <p:spPr>
          <a:xfrm>
            <a:off x="1103400" y="609480"/>
            <a:ext cx="9982080" cy="182880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4000" spc="-1" strike="noStrike">
                <a:solidFill>
                  <a:srgbClr val="000000"/>
                </a:solidFill>
                <a:latin typeface="Aptos ExtraBold"/>
              </a:rPr>
              <a:t>Reorganizaciones societarias libres de impuestos.</a:t>
            </a:r>
            <a:endParaRPr b="0" lang="en-US" sz="4000" spc="-1" strike="noStrike">
              <a:solidFill>
                <a:srgbClr val="000000"/>
              </a:solidFill>
              <a:latin typeface="Calibri"/>
            </a:endParaRPr>
          </a:p>
        </p:txBody>
      </p:sp>
      <p:sp>
        <p:nvSpPr>
          <p:cNvPr id="88" name="Rectángulo 5"/>
          <p:cNvSpPr/>
          <p:nvPr/>
        </p:nvSpPr>
        <p:spPr>
          <a:xfrm>
            <a:off x="1217520" y="2743200"/>
            <a:ext cx="9753840" cy="3733920"/>
          </a:xfrm>
          <a:prstGeom prst="rect">
            <a:avLst/>
          </a:prstGeom>
          <a:solidFill>
            <a:srgbClr val="4f81bd"/>
          </a:solidFill>
          <a:ln w="25560">
            <a:solidFill>
              <a:srgbClr val="1c334e"/>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ffffff"/>
                </a:solidFill>
                <a:latin typeface="Calibri"/>
              </a:rPr>
              <a:t>CUARTA REUNION </a:t>
            </a:r>
            <a:endParaRPr b="0" lang="en-US" sz="20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ffffff"/>
                </a:solidFill>
                <a:latin typeface="Calibri"/>
              </a:rPr>
              <a:t>ANALISIS PARTICULAR DE LOS REQUISITOS DE ACTIVIDAD</a:t>
            </a:r>
            <a:endParaRPr b="0" lang="en-US" sz="20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ffffff"/>
                </a:solidFill>
                <a:latin typeface="Calibri"/>
              </a:rPr>
              <a:t>CONCEPTO DE EMPRESA EN MARCHA. </a:t>
            </a:r>
            <a:endParaRPr b="0" lang="en-US" sz="2000" spc="-1" strike="noStrike">
              <a:solidFill>
                <a:srgbClr val="000000"/>
              </a:solidFill>
              <a:latin typeface="Calibri"/>
            </a:endParaRPr>
          </a:p>
          <a:p>
            <a:pPr algn="ctr">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ffffff"/>
                </a:solidFill>
                <a:latin typeface="Calibri"/>
              </a:rPr>
              <a:t>CONCEPTO DE ACTIVIDAD. </a:t>
            </a:r>
            <a:endParaRPr b="0" lang="en-US" sz="2000" spc="-1" strike="noStrike">
              <a:solidFill>
                <a:srgbClr val="000000"/>
              </a:solidFill>
              <a:latin typeface="Calibri"/>
            </a:endParaRPr>
          </a:p>
          <a:p>
            <a:pPr algn="ctr">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ffffff"/>
                </a:solidFill>
                <a:latin typeface="Calibri"/>
              </a:rPr>
              <a:t>ACTIVIDADES VINCULADAS CON ANTERIORIDAD A LA FUSION. LA ACTIVIDAD INVERSORA Y EL CASO DE LA ACTIVIDAD HOLDING</a:t>
            </a:r>
            <a:endParaRPr b="0" lang="en-US" sz="2000" spc="-1" strike="noStrike">
              <a:solidFill>
                <a:srgbClr val="000000"/>
              </a:solidFill>
              <a:latin typeface="Calibri"/>
            </a:endParaRPr>
          </a:p>
          <a:p>
            <a:pPr algn="ctr">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ffffff"/>
                </a:solidFill>
                <a:latin typeface="Calibri"/>
              </a:rPr>
              <a:t>MANTENIMIENTO DE LA ACTIVIDAD CON POSTERIORIDAD A LA FUSION. GRADO DE EXIGENCIA DEL CUMPLIMIENTO DEL REQUISITO. </a:t>
            </a:r>
            <a:endParaRPr b="0" lang="en-US" sz="2000" spc="-1" strike="noStrike">
              <a:solidFill>
                <a:srgbClr val="000000"/>
              </a:solidFill>
              <a:latin typeface="Calibri"/>
            </a:endParaRPr>
          </a:p>
          <a:p>
            <a:pPr algn="ctr">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ffffff"/>
                </a:solidFill>
                <a:latin typeface="Calibri"/>
              </a:rPr>
              <a:t>DISCONTINUACION DE LA ACTIVIDAD COMO CONSECUENCIA DE LA REORGANIZACION.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408400" y="304920"/>
            <a:ext cx="7772400" cy="7128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la Actividad</a:t>
            </a:r>
            <a:endParaRPr b="0" lang="en-US" sz="2800" spc="-1" strike="noStrike">
              <a:solidFill>
                <a:srgbClr val="000000"/>
              </a:solidFill>
              <a:latin typeface="Calibri"/>
            </a:endParaRPr>
          </a:p>
        </p:txBody>
      </p:sp>
      <p:sp>
        <p:nvSpPr>
          <p:cNvPr id="117" name="CuadroTexto 4"/>
          <p:cNvSpPr/>
          <p:nvPr/>
        </p:nvSpPr>
        <p:spPr>
          <a:xfrm>
            <a:off x="1065240" y="1692360"/>
            <a:ext cx="10458360" cy="294588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MX" sz="2000" spc="-1" strike="noStrike">
                <a:solidFill>
                  <a:srgbClr val="000000"/>
                </a:solidFill>
                <a:latin typeface="Aptos"/>
              </a:rPr>
              <a:t>“</a:t>
            </a:r>
            <a:r>
              <a:rPr b="0" i="1" lang="es-MX" sz="2000" spc="-1" strike="noStrike">
                <a:solidFill>
                  <a:srgbClr val="000000"/>
                </a:solidFill>
                <a:latin typeface="Aptos"/>
              </a:rPr>
              <a:t>Que continúen desarrollando por un periodo no inferior a 2 años, contados a partir de la fecha de reorganización, </a:t>
            </a:r>
            <a:r>
              <a:rPr b="1" i="1" lang="es-MX" sz="2000" spc="-1" strike="noStrike">
                <a:solidFill>
                  <a:srgbClr val="000000"/>
                </a:solidFill>
                <a:latin typeface="Aptos"/>
              </a:rPr>
              <a:t>alguna de las actividades de la o las empresas reestructuradas u otras vinculadas con aquellas </a:t>
            </a:r>
            <a:r>
              <a:rPr b="0" i="1" lang="es-MX" sz="2000" spc="-1" strike="noStrike">
                <a:solidFill>
                  <a:srgbClr val="000000"/>
                </a:solidFill>
                <a:latin typeface="Aptos"/>
              </a:rPr>
              <a:t>– permanencia de la explotación dentro del mismo ramo de forma tal que los bienes y/o servicios que produzcan y/o comercialicen la o las empresas continuadoras posean características similares a los que producían y/o comercializaban la o las empresas antecesoras”</a:t>
            </a:r>
            <a:endParaRPr b="0" lang="en-US" sz="2000" spc="-1" strike="noStrike">
              <a:solidFill>
                <a:srgbClr val="000000"/>
              </a:solidFill>
              <a:latin typeface="Calibri"/>
            </a:endParaRPr>
          </a:p>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703240" y="228600"/>
            <a:ext cx="6933960" cy="7128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Actividad </a:t>
            </a:r>
            <a:br>
              <a:rPr sz="2800"/>
            </a:br>
            <a:r>
              <a:rPr b="0" i="1" lang="es-ES" sz="2800" spc="-1" strike="noStrike">
                <a:solidFill>
                  <a:srgbClr val="4f81bd"/>
                </a:solidFill>
                <a:latin typeface="Aptos"/>
              </a:rPr>
              <a:t>Carga de la prueba</a:t>
            </a:r>
            <a:endParaRPr b="0" lang="en-US" sz="2800" spc="-1" strike="noStrike">
              <a:solidFill>
                <a:srgbClr val="000000"/>
              </a:solidFill>
              <a:latin typeface="Calibri"/>
            </a:endParaRPr>
          </a:p>
        </p:txBody>
      </p:sp>
      <p:sp>
        <p:nvSpPr>
          <p:cNvPr id="119" name="CuadroTexto 13"/>
          <p:cNvSpPr/>
          <p:nvPr/>
        </p:nvSpPr>
        <p:spPr>
          <a:xfrm>
            <a:off x="531720" y="1089000"/>
            <a:ext cx="11277720" cy="598032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MX" sz="2000" spc="-1" strike="noStrike">
                <a:solidFill>
                  <a:srgbClr val="c0504d"/>
                </a:solidFill>
                <a:latin typeface="Aptos"/>
                <a:ea typeface="Arial"/>
              </a:rPr>
              <a:t>Massalin Particulares c/EN AFIP-DGI - CNCAF, III 14-5/13.</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MX" sz="2000" spc="-1" strike="noStrike">
                <a:solidFill>
                  <a:srgbClr val="4f81bd"/>
                </a:solidFill>
                <a:latin typeface="Aptos"/>
                <a:ea typeface="Arial"/>
              </a:rPr>
              <a:t>Fusión. Permite encuadrar en el 77 c). Prueba producida sobre mantenimiento de actividad</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ptos"/>
                <a:ea typeface="Arial"/>
              </a:rPr>
              <a:t>No basta que dichas actividades estén contempladas en el estatuto sino que debe acreditarse la efectiva realización de actividades similares o vinculadas. Se acredito mantenimiento de la actividad: Facturas, Pericia (contratación de espacios publicitarios, inversiones de excedentes financieros).</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MX" sz="2000" spc="-1" strike="noStrike">
                <a:solidFill>
                  <a:srgbClr val="c0504d"/>
                </a:solidFill>
                <a:latin typeface="Aptos"/>
                <a:ea typeface="Arial"/>
              </a:rPr>
              <a:t>Rossi Hermanos S.A. y Otro c/ EN-AFIP- DGI - CNCAF, IV, 30/04/24</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MX" sz="2000" spc="-1" strike="noStrike">
                <a:solidFill>
                  <a:srgbClr val="4f81bd"/>
                </a:solidFill>
                <a:latin typeface="Aptos"/>
                <a:ea typeface="Arial"/>
              </a:rPr>
              <a:t>Escisión. Carga de la prueba.</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ptos"/>
                <a:ea typeface="Arial"/>
              </a:rPr>
              <a:t>AFIP había sostenido que la sociedad El Viracho (escisionaria de Rossi Hermanos S.A.)  no cuenta con los bienes necesarios para llevar adelante la actividad de la antecesora. </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ptos"/>
                <a:ea typeface="Arial"/>
              </a:rPr>
              <a:t>Falta de mantenimiento de la actividad no fue probado por AFIP – carga de la prueba -. </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ptos"/>
                <a:ea typeface="Arial"/>
              </a:rPr>
              <a:t>Solo invocaciones genéricas.</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684360" y="194760"/>
            <a:ext cx="11353680" cy="6526440"/>
          </a:xfrm>
          <a:prstGeom prst="rect">
            <a:avLst/>
          </a:prstGeom>
          <a:noFill/>
          <a:ln w="9360">
            <a:solidFill>
              <a:srgbClr val="4f81bd"/>
            </a:solidFill>
            <a:miter/>
          </a:ln>
        </p:spPr>
        <p:txBody>
          <a:bodyPr anchor="t">
            <a:normAutofit fontScale="95000"/>
          </a:bodyPr>
          <a:p>
            <a:pPr marL="32580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Actividad</a:t>
            </a:r>
            <a:endParaRPr b="0" lang="en-US" sz="2800" spc="-1" strike="noStrike">
              <a:solidFill>
                <a:srgbClr val="000000"/>
              </a:solidFill>
              <a:latin typeface="Calibri"/>
            </a:endParaRPr>
          </a:p>
          <a:p>
            <a:pPr marL="32580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AR" sz="2800" spc="-1" strike="noStrike">
                <a:solidFill>
                  <a:srgbClr val="4f81bd"/>
                </a:solidFill>
                <a:latin typeface="Aptos SemiBold"/>
              </a:rPr>
              <a:t>¿Pueden las empresas reorganizadas seguir sólo una actividad</a:t>
            </a:r>
            <a:endParaRPr b="0" lang="en-US" sz="2800" spc="-1" strike="noStrike">
              <a:solidFill>
                <a:srgbClr val="000000"/>
              </a:solidFill>
              <a:latin typeface="Calibri"/>
            </a:endParaRPr>
          </a:p>
          <a:p>
            <a:pPr marL="32580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AR" sz="2800" spc="-1" strike="noStrike">
                <a:solidFill>
                  <a:srgbClr val="4f81bd"/>
                </a:solidFill>
                <a:latin typeface="Aptos SemiBold"/>
              </a:rPr>
              <a:t>de las varias que desarrollaban?</a:t>
            </a:r>
            <a:endParaRPr b="0" lang="en-US" sz="2800" spc="-1" strike="noStrike">
              <a:solidFill>
                <a:srgbClr val="000000"/>
              </a:solidFill>
              <a:latin typeface="Calibri"/>
            </a:endParaRPr>
          </a:p>
          <a:p>
            <a:pPr marL="32580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2000" spc="-1" strike="noStrike">
                <a:solidFill>
                  <a:srgbClr val="c0504d"/>
                </a:solidFill>
                <a:latin typeface="Aptos Narrow"/>
              </a:rPr>
              <a:t>Dictámenes </a:t>
            </a:r>
            <a:r>
              <a:rPr b="1" lang="es-ES" sz="2000" spc="-1" strike="noStrike">
                <a:solidFill>
                  <a:srgbClr val="c0504d"/>
                </a:solidFill>
                <a:latin typeface="Aptos Narrow"/>
              </a:rPr>
              <a:t>(DAT) 31/14, 28/15</a:t>
            </a:r>
            <a:endParaRPr b="0" lang="en-US" sz="20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a:t>
            </a:r>
            <a:r>
              <a:rPr b="0" lang="es-ES" sz="2000" spc="-1" strike="noStrike">
                <a:solidFill>
                  <a:srgbClr val="000000"/>
                </a:solidFill>
                <a:latin typeface="Aptos Narrow"/>
              </a:rPr>
              <a:t>Sería suficiente que cada una de las entidades escisionarias continúen desarrollando “alguna” de las actividades de la empresa reestructurada y no su globalidad”. </a:t>
            </a:r>
            <a:endParaRPr b="0" lang="en-US" sz="20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ES" sz="2000" spc="-1" strike="noStrike">
                <a:solidFill>
                  <a:srgbClr val="c0504d"/>
                </a:solidFill>
                <a:latin typeface="Aptos Narrow"/>
              </a:rPr>
              <a:t>T4F Entretenimiento Argentina, CNCAF, V, 25-04-19</a:t>
            </a:r>
            <a:endParaRPr b="0" lang="en-US" sz="2000" spc="-1" strike="noStrike">
              <a:solidFill>
                <a:srgbClr val="000000"/>
              </a:solidFill>
              <a:latin typeface="Calibri"/>
            </a:endParaRPr>
          </a:p>
          <a:p>
            <a:pPr marL="325800" indent="-325800" algn="ct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T4F era continuadora de 5 empresas.</a:t>
            </a:r>
            <a:endParaRPr b="0" lang="en-US" sz="2000" spc="-1" strike="noStrike">
              <a:solidFill>
                <a:srgbClr val="000000"/>
              </a:solidFill>
              <a:latin typeface="Calibri"/>
            </a:endParaRPr>
          </a:p>
          <a:p>
            <a:pPr marL="325800" indent="-325800" algn="ct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Si bien el informe contable destaco que el contribuyente no había acompañado las facturas para ver el concepto de las mismas, debe presumirse, al menos, que la continuadora de las sociedades absorbidas continuo con su propia actividad.</a:t>
            </a:r>
            <a:endParaRPr b="0" lang="en-US" sz="2000" spc="-1" strike="noStrike">
              <a:solidFill>
                <a:srgbClr val="000000"/>
              </a:solidFill>
              <a:latin typeface="Calibri"/>
            </a:endParaRPr>
          </a:p>
          <a:p>
            <a:pPr marL="325800" indent="-325800" algn="ct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La reglamentación no exige que se desarrollen “todas” las actividades de la antecesora sino que basta “alguna”.</a:t>
            </a:r>
            <a:endParaRPr b="0" lang="en-US" sz="2000" spc="-1" strike="noStrike">
              <a:solidFill>
                <a:srgbClr val="000000"/>
              </a:solidFill>
              <a:latin typeface="Calibri"/>
            </a:endParaRPr>
          </a:p>
          <a:p>
            <a:pPr marL="325800" indent="-325800" algn="ct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El Fisco no cuestiona que la empresa tuvo actividad económica relevante durante el período. </a:t>
            </a:r>
            <a:endParaRPr b="0" lang="en-US" sz="20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	</a:t>
            </a:r>
            <a:r>
              <a:rPr b="0" lang="es-AR" sz="2000" spc="-1" strike="noStrike">
                <a:solidFill>
                  <a:srgbClr val="000000"/>
                </a:solidFill>
                <a:latin typeface="Aptos Narrow"/>
              </a:rPr>
              <a:t>	</a:t>
            </a:r>
            <a:r>
              <a:rPr b="0" lang="es-AR" sz="2000" spc="-1" strike="noStrike">
                <a:solidFill>
                  <a:srgbClr val="000000"/>
                </a:solidFill>
                <a:latin typeface="Aptos Narrow"/>
              </a:rPr>
              <a:t>	</a:t>
            </a:r>
            <a:r>
              <a:rPr b="0" lang="es-AR" sz="2000" spc="-1" strike="noStrike">
                <a:solidFill>
                  <a:srgbClr val="000000"/>
                </a:solidFill>
                <a:latin typeface="Aptos Narrow"/>
              </a:rPr>
              <a:t>	</a:t>
            </a:r>
            <a:r>
              <a:rPr b="0" lang="es-AR" sz="2000" spc="-1" strike="noStrike">
                <a:solidFill>
                  <a:srgbClr val="000000"/>
                </a:solidFill>
                <a:latin typeface="Aptos Narrow"/>
              </a:rPr>
              <a:t>	</a:t>
            </a:r>
            <a:r>
              <a:rPr b="0" lang="es-AR" sz="2000" spc="-1" strike="noStrike">
                <a:solidFill>
                  <a:srgbClr val="000000"/>
                </a:solidFill>
                <a:latin typeface="Aptos Narrow"/>
              </a:rPr>
              <a:t>	</a:t>
            </a:r>
            <a:endParaRPr b="0" lang="en-US" sz="2000" spc="-1" strike="noStrike">
              <a:solidFill>
                <a:srgbClr val="000000"/>
              </a:solidFill>
              <a:latin typeface="Calibri"/>
            </a:endParaRPr>
          </a:p>
        </p:txBody>
      </p:sp>
      <p:pic>
        <p:nvPicPr>
          <p:cNvPr id="121" name="Picture 2" descr=""/>
          <p:cNvPicPr/>
          <p:nvPr/>
        </p:nvPicPr>
        <p:blipFill>
          <a:blip r:embed="rId1"/>
          <a:srcRect l="0" t="0" r="79623" b="0"/>
          <a:stretch/>
        </p:blipFill>
        <p:spPr>
          <a:xfrm>
            <a:off x="0" y="5562720"/>
            <a:ext cx="465120" cy="1295280"/>
          </a:xfrm>
          <a:prstGeom prst="rect">
            <a:avLst/>
          </a:prstGeom>
          <a:ln w="0">
            <a:noFill/>
          </a:ln>
        </p:spPr>
      </p:pic>
      <p:sp>
        <p:nvSpPr>
          <p:cNvPr id="122"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10A6EC-3F9A-47FD-A19A-2C62A79726E9}"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34720" y="274680"/>
            <a:ext cx="11953800" cy="5821200"/>
          </a:xfrm>
          <a:prstGeom prst="rect">
            <a:avLst/>
          </a:prstGeom>
          <a:noFill/>
          <a:ln w="9360">
            <a:solidFill>
              <a:srgbClr val="1f497d"/>
            </a:solidFill>
            <a:miter/>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Actividad</a:t>
            </a:r>
            <a:br>
              <a:rPr sz="2800"/>
            </a:br>
            <a:r>
              <a:rPr b="0" i="1" lang="es-AR" sz="2800" spc="-1" strike="noStrike">
                <a:solidFill>
                  <a:srgbClr val="4f81bd"/>
                </a:solidFill>
                <a:latin typeface="Aptos SemiBold"/>
              </a:rPr>
              <a:t>Explotación agropecuaria vs. Actividad de arrendamiento rural</a:t>
            </a:r>
            <a:br>
              <a:rPr sz="2800"/>
            </a:br>
            <a:br>
              <a:rPr sz="2800"/>
            </a:br>
            <a:r>
              <a:rPr b="1" i="1" lang="es-AR" sz="2000" spc="-1" strike="noStrike">
                <a:solidFill>
                  <a:srgbClr val="c0504d"/>
                </a:solidFill>
                <a:latin typeface="Aptos SemiBold"/>
              </a:rPr>
              <a:t>Dictamen 10/05, 82/11, 28/13, 22/14, 25/14, 7/15</a:t>
            </a:r>
            <a:br>
              <a:rPr sz="2000"/>
            </a:br>
            <a:r>
              <a:rPr b="0" lang="es-AR" sz="2000" spc="-1" strike="noStrike">
                <a:solidFill>
                  <a:srgbClr val="000000"/>
                </a:solidFill>
                <a:latin typeface="Aptos Narrow"/>
              </a:rPr>
              <a:t>La actividad de explotación agropecuaria se puede hacer de manera directa o mediante contratos de aparcería o capitalización de hacienda.</a:t>
            </a:r>
            <a:br>
              <a:rPr sz="2000"/>
            </a:br>
            <a:r>
              <a:rPr b="0" lang="es-AR" sz="2000" spc="-1" strike="noStrike">
                <a:solidFill>
                  <a:srgbClr val="000000"/>
                </a:solidFill>
                <a:latin typeface="Aptos Narrow"/>
              </a:rPr>
              <a:t>Si las sociedades escisionarias realizan producción agrícola y ganadera, aun bajo aparcería rural y capitalización de hacienda, se verificara asunción de riesgos inherentes a dichas actividades, generándose ingresos y gastos por operaciones análogas o equivalentes al desarrollado por las antecesoras (actividad agropecuaria en forma directa).  Ambos involucran no solo inversión de capital sino esfuerzo personal de los sujetos continuadores. Asunción de riesgos.</a:t>
            </a:r>
            <a:br>
              <a:rPr sz="2000"/>
            </a:br>
            <a:br>
              <a:rPr sz="2000"/>
            </a:br>
            <a:r>
              <a:rPr b="0" i="1" lang="es-AR" sz="2000" spc="-1" strike="noStrike">
                <a:solidFill>
                  <a:srgbClr val="c0504d"/>
                </a:solidFill>
                <a:latin typeface="Aptos SemiBold"/>
              </a:rPr>
              <a:t>Dictamen 29/12</a:t>
            </a:r>
            <a:br>
              <a:rPr sz="2000"/>
            </a:br>
            <a:r>
              <a:rPr b="0" lang="es-AR" sz="2000" spc="-1" strike="noStrike">
                <a:solidFill>
                  <a:srgbClr val="000000"/>
                </a:solidFill>
                <a:latin typeface="Aptos Narrow"/>
              </a:rPr>
              <a:t>La escisión de inmuebles afectados por la sociedad a la explotación agropecuaria para luego fusionarlos con otra entidad que los aplicará a arrendamiento rural, no denota el desarrollo de actividades vinculadas, pues la absorbente desarrollará actividad de arrendamiento y la antecesora que se escinde solo ejercía actividad agropecuaria (riesgos inherentes a la actividad productiva). Estructura de gastos, costos e ingresos diferentes. </a:t>
            </a:r>
            <a:br>
              <a:rPr sz="2000"/>
            </a:br>
            <a:endParaRPr b="0" lang="en-US" sz="2000" spc="-1" strike="noStrike">
              <a:solidFill>
                <a:srgbClr val="000000"/>
              </a:solidFill>
              <a:latin typeface="Calibri"/>
            </a:endParaRPr>
          </a:p>
        </p:txBody>
      </p:sp>
      <p:pic>
        <p:nvPicPr>
          <p:cNvPr id="124" name="Picture 2" descr=""/>
          <p:cNvPicPr/>
          <p:nvPr/>
        </p:nvPicPr>
        <p:blipFill>
          <a:blip r:embed="rId1"/>
          <a:srcRect l="0" t="0" r="79623" b="0"/>
          <a:stretch/>
        </p:blipFill>
        <p:spPr>
          <a:xfrm>
            <a:off x="0" y="5562720"/>
            <a:ext cx="465120" cy="1295280"/>
          </a:xfrm>
          <a:prstGeom prst="rect">
            <a:avLst/>
          </a:prstGeom>
          <a:ln w="0">
            <a:noFill/>
          </a:ln>
        </p:spPr>
      </p:pic>
      <p:sp>
        <p:nvSpPr>
          <p:cNvPr id="125"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3BEE9F1-3A62-4120-9EEB-AA19D94F9A55}"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65120" y="274680"/>
            <a:ext cx="11723760" cy="6081840"/>
          </a:xfrm>
          <a:prstGeom prst="rect">
            <a:avLst/>
          </a:prstGeom>
          <a:noFill/>
          <a:ln w="9360">
            <a:solidFill>
              <a:srgbClr val="1f497d"/>
            </a:solidFill>
            <a:miter/>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Actividad</a:t>
            </a:r>
            <a:br>
              <a:rPr sz="2800"/>
            </a:br>
            <a:r>
              <a:rPr b="0" i="1" lang="es-AR" sz="2800" spc="-1" strike="noStrike">
                <a:solidFill>
                  <a:srgbClr val="4f81bd"/>
                </a:solidFill>
                <a:latin typeface="Aptos SemiBold"/>
              </a:rPr>
              <a:t>Explotación agropecuaria vs. Actividad de arrendamiento rural</a:t>
            </a:r>
            <a:br>
              <a:rPr sz="2800"/>
            </a:br>
            <a:br>
              <a:rPr sz="2800"/>
            </a:br>
            <a:br>
              <a:rPr sz="2800"/>
            </a:br>
            <a:r>
              <a:rPr b="1" i="1" lang="es-AR" sz="2000" spc="-1" strike="noStrike">
                <a:solidFill>
                  <a:srgbClr val="c0504d"/>
                </a:solidFill>
                <a:latin typeface="Aptos SemiBold"/>
              </a:rPr>
              <a:t>Dictamen 52/22</a:t>
            </a:r>
            <a:br>
              <a:rPr sz="2000"/>
            </a:br>
            <a:r>
              <a:rPr b="1" lang="es-AR" sz="2000" spc="-1" strike="noStrike">
                <a:solidFill>
                  <a:srgbClr val="4f81bd"/>
                </a:solidFill>
                <a:latin typeface="Aptos SemiBold"/>
              </a:rPr>
              <a:t>Escisión. </a:t>
            </a:r>
            <a:br>
              <a:rPr sz="2000"/>
            </a:br>
            <a:r>
              <a:rPr b="0" lang="es-AR" sz="2000" spc="-1" strike="noStrike">
                <a:solidFill>
                  <a:srgbClr val="000000"/>
                </a:solidFill>
                <a:latin typeface="Aptos Narrow"/>
              </a:rPr>
              <a:t>Se admite que solo alguna o algunas de las sociedades continuadoras en lugar de desarrollar las actividades de explotación y arrendamiento se dediquen solo al arrendamiento (actividad secundaria de la escindida) o solo a la explotación ya sea directa o indirecta a partir de contratos asociativos</a:t>
            </a:r>
            <a:r>
              <a:rPr b="0" lang="es-AR" sz="2000" spc="-1" strike="noStrike">
                <a:solidFill>
                  <a:srgbClr val="4f81bd"/>
                </a:solidFill>
                <a:latin typeface="Aptos SemiBold"/>
              </a:rPr>
              <a:t>.</a:t>
            </a:r>
            <a:br>
              <a:rPr sz="2000"/>
            </a:br>
            <a:br>
              <a:rPr sz="2000"/>
            </a:br>
            <a:r>
              <a:rPr b="1" i="1" lang="es-AR" sz="2000" spc="-1" strike="noStrike">
                <a:solidFill>
                  <a:srgbClr val="c0504d"/>
                </a:solidFill>
                <a:latin typeface="Aptos SemiBold"/>
              </a:rPr>
              <a:t>Dictamen 45/19</a:t>
            </a:r>
            <a:br>
              <a:rPr sz="2000"/>
            </a:br>
            <a:r>
              <a:rPr b="0" lang="es-AR" sz="2000" spc="-1" strike="noStrike">
                <a:solidFill>
                  <a:srgbClr val="4f81bd"/>
                </a:solidFill>
                <a:latin typeface="Aptos SemiBold"/>
              </a:rPr>
              <a:t>Escisión</a:t>
            </a:r>
            <a:br>
              <a:rPr sz="2000"/>
            </a:br>
            <a:r>
              <a:rPr b="0" lang="es-AR" sz="2000" spc="-1" strike="noStrike">
                <a:solidFill>
                  <a:srgbClr val="000000"/>
                </a:solidFill>
                <a:latin typeface="Aptos Narrow"/>
              </a:rPr>
              <a:t>SA en dos unipersonales y una SA.</a:t>
            </a:r>
            <a:br>
              <a:rPr sz="2000"/>
            </a:br>
            <a:r>
              <a:rPr b="1" lang="es-AR" sz="2000" spc="-1" strike="noStrike">
                <a:solidFill>
                  <a:srgbClr val="4f81bd"/>
                </a:solidFill>
                <a:latin typeface="Aptos Narrow"/>
              </a:rPr>
              <a:t>Antecesora:</a:t>
            </a:r>
            <a:r>
              <a:rPr b="0" lang="es-AR" sz="2000" spc="-1" strike="noStrike">
                <a:solidFill>
                  <a:srgbClr val="000000"/>
                </a:solidFill>
                <a:latin typeface="Aptos Narrow"/>
              </a:rPr>
              <a:t> cría de ganado bovino, cultivo de cereales y arrendamiento.</a:t>
            </a:r>
            <a:br>
              <a:rPr sz="2000"/>
            </a:br>
            <a:r>
              <a:rPr b="1" lang="es-AR" sz="2000" spc="-1" strike="noStrike">
                <a:solidFill>
                  <a:srgbClr val="4f81bd"/>
                </a:solidFill>
                <a:latin typeface="Aptos Narrow"/>
              </a:rPr>
              <a:t>Continuadoras:</a:t>
            </a:r>
            <a:r>
              <a:rPr b="0" lang="es-AR" sz="2000" spc="-1" strike="noStrike">
                <a:solidFill>
                  <a:srgbClr val="000000"/>
                </a:solidFill>
                <a:latin typeface="Aptos Narrow"/>
              </a:rPr>
              <a:t> el arrendamiento lo puede continuar una sola de las escisionarias. </a:t>
            </a:r>
            <a:br>
              <a:rPr sz="2000"/>
            </a:br>
            <a:r>
              <a:rPr b="0" lang="es-AR" sz="2000" spc="-1" strike="noStrike">
                <a:solidFill>
                  <a:srgbClr val="000000"/>
                </a:solidFill>
                <a:latin typeface="Aptos Narrow"/>
              </a:rPr>
              <a:t>Las personas humanas no pueden obtener solo rentas de primera categoría porque obstaría la existencia de empresa unipersonal</a:t>
            </a:r>
            <a:endParaRPr b="0" lang="en-US" sz="2000" spc="-1" strike="noStrike">
              <a:solidFill>
                <a:srgbClr val="000000"/>
              </a:solidFill>
              <a:latin typeface="Calibri"/>
            </a:endParaRPr>
          </a:p>
        </p:txBody>
      </p:sp>
      <p:pic>
        <p:nvPicPr>
          <p:cNvPr id="127" name="Picture 2" descr=""/>
          <p:cNvPicPr/>
          <p:nvPr/>
        </p:nvPicPr>
        <p:blipFill>
          <a:blip r:embed="rId1"/>
          <a:srcRect l="0" t="0" r="79623" b="0"/>
          <a:stretch/>
        </p:blipFill>
        <p:spPr>
          <a:xfrm>
            <a:off x="0" y="5562720"/>
            <a:ext cx="465120" cy="1295280"/>
          </a:xfrm>
          <a:prstGeom prst="rect">
            <a:avLst/>
          </a:prstGeom>
          <a:ln w="0">
            <a:noFill/>
          </a:ln>
        </p:spPr>
      </p:pic>
      <p:sp>
        <p:nvSpPr>
          <p:cNvPr id="128"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67F279-D09E-4839-B499-1999949E0556}"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64760" y="274680"/>
            <a:ext cx="11496600" cy="5821200"/>
          </a:xfrm>
          <a:prstGeom prst="rect">
            <a:avLst/>
          </a:prstGeom>
          <a:noFill/>
          <a:ln w="9360">
            <a:solidFill>
              <a:srgbClr val="1f497d"/>
            </a:solidFill>
            <a:miter/>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Actividad</a:t>
            </a:r>
            <a:br>
              <a:rPr sz="2800"/>
            </a:br>
            <a:r>
              <a:rPr b="0" i="1" lang="es-ES" sz="2800" spc="-1" strike="noStrike">
                <a:solidFill>
                  <a:srgbClr val="4f81bd"/>
                </a:solidFill>
                <a:latin typeface="Aptos"/>
              </a:rPr>
              <a:t>“Identidad de objeto”</a:t>
            </a:r>
            <a:br>
              <a:rPr sz="2800"/>
            </a:br>
            <a:br>
              <a:rPr sz="2800"/>
            </a:br>
            <a:r>
              <a:rPr b="0" i="1" lang="es-AR" sz="2400" spc="-1" strike="noStrike">
                <a:solidFill>
                  <a:srgbClr val="c0504d"/>
                </a:solidFill>
                <a:latin typeface="Aptos SemiBold"/>
              </a:rPr>
              <a:t>Dictamen  15/2017</a:t>
            </a:r>
            <a:br>
              <a:rPr sz="2400"/>
            </a:br>
            <a:br>
              <a:rPr sz="2400"/>
            </a:br>
            <a:r>
              <a:rPr b="0" lang="es-AR" sz="2000" spc="-1" strike="noStrike">
                <a:solidFill>
                  <a:srgbClr val="000000"/>
                </a:solidFill>
                <a:latin typeface="Aptos Narrow"/>
              </a:rPr>
              <a:t>A.A. S.A. absorbería 3 inmuebles que se escindirán de FF para desarrollar un parque industrial.</a:t>
            </a:r>
            <a:br>
              <a:rPr sz="2000"/>
            </a:br>
            <a:br>
              <a:rPr sz="2000"/>
            </a:br>
            <a:r>
              <a:rPr b="0" lang="es-AR" sz="2000" spc="-1" strike="noStrike">
                <a:solidFill>
                  <a:srgbClr val="000000"/>
                </a:solidFill>
                <a:latin typeface="Aptos Narrow"/>
              </a:rPr>
              <a:t>FF S.A. se dedica a la fabricación de aleaciones de metales no ferrosos además de haber realizado en forma complementaria locación de inmuebles de su propiedad.</a:t>
            </a:r>
            <a:br>
              <a:rPr sz="2000"/>
            </a:br>
            <a:br>
              <a:rPr sz="2000"/>
            </a:br>
            <a:r>
              <a:rPr b="0" lang="es-AR" sz="2000" spc="-1" strike="noStrike">
                <a:solidFill>
                  <a:srgbClr val="000000"/>
                </a:solidFill>
                <a:latin typeface="Aptos Narrow"/>
              </a:rPr>
              <a:t>A.A. S.A. realiza actividad inversora en BB S.A. </a:t>
            </a:r>
            <a:br>
              <a:rPr sz="2000"/>
            </a:br>
            <a:br>
              <a:rPr sz="2000"/>
            </a:br>
            <a:r>
              <a:rPr b="0" lang="es-AR" sz="2000" spc="-1" strike="noStrike">
                <a:solidFill>
                  <a:srgbClr val="000000"/>
                </a:solidFill>
                <a:latin typeface="Aptos Narrow"/>
              </a:rPr>
              <a:t>AA S.A. emprenderá luego de la reestructura el desarrollo de un parque industrial para su explotación lo cual requiere una estructura operativa diferente e implica la asunción de riesgos distintos a los inherentes a las actividades inversora, industrial e inmobiliaria – alquiler – ejercidas por las antecesoras, por lo que se observa el incumplimiento del criterio rector llamado “identidad de objeto”</a:t>
            </a:r>
            <a:endParaRPr b="0" lang="en-US" sz="2000" spc="-1" strike="noStrike">
              <a:solidFill>
                <a:srgbClr val="000000"/>
              </a:solidFill>
              <a:latin typeface="Calibri"/>
            </a:endParaRPr>
          </a:p>
        </p:txBody>
      </p:sp>
      <p:pic>
        <p:nvPicPr>
          <p:cNvPr id="130" name="Picture 2" descr=""/>
          <p:cNvPicPr/>
          <p:nvPr/>
        </p:nvPicPr>
        <p:blipFill>
          <a:blip r:embed="rId1"/>
          <a:srcRect l="0" t="0" r="79623" b="0"/>
          <a:stretch/>
        </p:blipFill>
        <p:spPr>
          <a:xfrm>
            <a:off x="0" y="5562720"/>
            <a:ext cx="465120" cy="1295280"/>
          </a:xfrm>
          <a:prstGeom prst="rect">
            <a:avLst/>
          </a:prstGeom>
          <a:ln w="0">
            <a:noFill/>
          </a:ln>
        </p:spPr>
      </p:pic>
      <p:sp>
        <p:nvSpPr>
          <p:cNvPr id="131"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8FA4BA-4520-4701-A88E-1C4405CDC759}"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684000" y="457200"/>
            <a:ext cx="10969560" cy="5562720"/>
          </a:xfrm>
          <a:prstGeom prst="rect">
            <a:avLst/>
          </a:prstGeom>
          <a:noFill/>
          <a:ln w="9360">
            <a:solidFill>
              <a:srgbClr val="1f497d"/>
            </a:solidFill>
            <a:miter/>
          </a:ln>
        </p:spPr>
        <p:txBody>
          <a:bodyPr anchor="t">
            <a:normAutofit/>
          </a:bodyPr>
          <a:p>
            <a:pPr marL="34308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Actividad</a:t>
            </a:r>
            <a:endParaRPr b="0" lang="en-US" sz="2800" spc="-1" strike="noStrike">
              <a:solidFill>
                <a:srgbClr val="000000"/>
              </a:solidFill>
              <a:latin typeface="Calibri"/>
            </a:endParaRPr>
          </a:p>
          <a:p>
            <a:pPr marL="34308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800" spc="-1" strike="noStrike">
                <a:solidFill>
                  <a:srgbClr val="4f81bd"/>
                </a:solidFill>
                <a:latin typeface="Aptos SemiBold"/>
              </a:rPr>
              <a:t>Se “discontinua” una actividad como consecuencia de la fusión</a:t>
            </a:r>
            <a:endParaRPr b="0" lang="en-US" sz="2800" spc="-1" strike="noStrike">
              <a:solidFill>
                <a:srgbClr val="000000"/>
              </a:solidFill>
              <a:latin typeface="Calibri"/>
            </a:endParaRPr>
          </a:p>
          <a:p>
            <a:pPr marL="34308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000" spc="-1" strike="noStrike">
                <a:solidFill>
                  <a:srgbClr val="c0504d"/>
                </a:solidFill>
                <a:latin typeface="Aptos Narrow"/>
              </a:rPr>
              <a:t>“</a:t>
            </a:r>
            <a:r>
              <a:rPr b="1" i="1" lang="es-AR" sz="2000" spc="-1" strike="noStrike">
                <a:solidFill>
                  <a:srgbClr val="c0504d"/>
                </a:solidFill>
                <a:latin typeface="Aptos Narrow"/>
              </a:rPr>
              <a:t>Transportes de Caudales Juncadella” CNCAF, III. 9/10/2014</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Reorganización societaria (fusión) entre Juncadella (transporte de caudales) y Prop. Jun.S.A. (servicios inmobiliarios).</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Importancia de la realidad económica en la evaluación de requisitos. </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La actividad de la empresa absorbida se realizaba con el único fin de prestar un servicio a la firma Juncadella para que ella cumpliera su actividad principal. </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Prueba pericial:  Inmuebles dotados de edificaciones especiales aptos para las operatoria de transporte, guarda y procesamiento de caudales.</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Requerir la continuidad de las actividades destruiría la télesis de la norma. </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000000"/>
                </a:solidFill>
                <a:latin typeface="Aptos Narrow"/>
              </a:rPr>
              <a:t>	</a:t>
            </a:r>
            <a:r>
              <a:rPr b="0" lang="es-AR" sz="2400" spc="-1" strike="noStrike">
                <a:solidFill>
                  <a:srgbClr val="000000"/>
                </a:solidFill>
                <a:latin typeface="Aptos Narrow"/>
              </a:rPr>
              <a:t>	</a:t>
            </a:r>
            <a:r>
              <a:rPr b="0" lang="es-AR" sz="2400" spc="-1" strike="noStrike">
                <a:solidFill>
                  <a:srgbClr val="000000"/>
                </a:solidFill>
                <a:latin typeface="Aptos Narrow"/>
              </a:rPr>
              <a:t>	</a:t>
            </a:r>
            <a:r>
              <a:rPr b="0" lang="es-AR" sz="2400" spc="-1" strike="noStrike">
                <a:solidFill>
                  <a:srgbClr val="000000"/>
                </a:solidFill>
                <a:latin typeface="Aptos Narrow"/>
              </a:rPr>
              <a:t>	</a:t>
            </a:r>
            <a:r>
              <a:rPr b="0" lang="es-AR" sz="2400" spc="-1" strike="noStrike">
                <a:solidFill>
                  <a:srgbClr val="000000"/>
                </a:solidFill>
                <a:latin typeface="Aptos Narrow"/>
              </a:rPr>
              <a:t>	</a:t>
            </a:r>
            <a:r>
              <a:rPr b="0" lang="es-AR" sz="2400" spc="-1" strike="noStrike">
                <a:solidFill>
                  <a:srgbClr val="000000"/>
                </a:solidFill>
                <a:latin typeface="Aptos Narrow"/>
              </a:rPr>
              <a:t>	</a:t>
            </a:r>
            <a:endParaRPr b="0" lang="en-US" sz="2400" spc="-1" strike="noStrike">
              <a:solidFill>
                <a:srgbClr val="000000"/>
              </a:solidFill>
              <a:latin typeface="Calibri"/>
            </a:endParaRPr>
          </a:p>
        </p:txBody>
      </p:sp>
      <p:pic>
        <p:nvPicPr>
          <p:cNvPr id="133" name="Picture 2" descr=""/>
          <p:cNvPicPr/>
          <p:nvPr/>
        </p:nvPicPr>
        <p:blipFill>
          <a:blip r:embed="rId1"/>
          <a:srcRect l="0" t="0" r="79623" b="0"/>
          <a:stretch/>
        </p:blipFill>
        <p:spPr>
          <a:xfrm>
            <a:off x="0" y="5562720"/>
            <a:ext cx="465120" cy="1295280"/>
          </a:xfrm>
          <a:prstGeom prst="rect">
            <a:avLst/>
          </a:prstGeom>
          <a:ln w="0">
            <a:noFill/>
          </a:ln>
        </p:spPr>
      </p:pic>
      <p:sp>
        <p:nvSpPr>
          <p:cNvPr id="134"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F8C02B-ABEC-4985-8FA8-9C1C450C671B}"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465120" y="136080"/>
            <a:ext cx="11420640" cy="6721560"/>
          </a:xfrm>
          <a:prstGeom prst="rect">
            <a:avLst/>
          </a:prstGeom>
          <a:noFill/>
          <a:ln w="9360">
            <a:solidFill>
              <a:srgbClr val="1f497d"/>
            </a:solidFill>
            <a:miter/>
          </a:ln>
        </p:spPr>
        <p:txBody>
          <a:bodyPr anchor="t">
            <a:normAutofit fontScale="95000"/>
          </a:bodyPr>
          <a:p>
            <a:pPr marL="32580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Actividad: </a:t>
            </a:r>
            <a:r>
              <a:rPr b="1" i="1" lang="es-AR" sz="2800" spc="-1" strike="noStrike">
                <a:solidFill>
                  <a:srgbClr val="4f81bd"/>
                </a:solidFill>
                <a:latin typeface="Aptos SemiBold"/>
              </a:rPr>
              <a:t>Se “comienza” una actividad vinculada que no se desarrollaba en la antecesora como consecuencia de la escisión.</a:t>
            </a:r>
            <a:endParaRPr b="0" lang="en-US" sz="28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000" spc="-1" strike="noStrike">
                <a:solidFill>
                  <a:srgbClr val="c0504d"/>
                </a:solidFill>
                <a:latin typeface="Aptos Narrow"/>
              </a:rPr>
              <a:t>Merno S.A. c/ EN, CNCAF, IV. 27/12/2016</a:t>
            </a:r>
            <a:endParaRPr b="0" lang="en-US" sz="20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Reorganización societaria (escisión). Merno escinde patrimonio y crea Centro de Servicios de Apoyo Médico (CSAM). </a:t>
            </a:r>
            <a:endParaRPr b="0" lang="en-US" sz="2000" spc="-1" strike="noStrike">
              <a:solidFill>
                <a:srgbClr val="000000"/>
              </a:solidFill>
              <a:latin typeface="Calibri"/>
            </a:endParaRPr>
          </a:p>
          <a:p>
            <a:pPr marL="32580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2000" spc="-1" strike="noStrike">
                <a:solidFill>
                  <a:srgbClr val="000000"/>
                </a:solidFill>
                <a:latin typeface="Aptos Narrow"/>
              </a:rPr>
              <a:t>Fisco: </a:t>
            </a:r>
            <a:r>
              <a:rPr b="0" lang="es-AR" sz="2000" spc="-1" strike="noStrike">
                <a:solidFill>
                  <a:srgbClr val="000000"/>
                </a:solidFill>
                <a:latin typeface="Aptos Narrow"/>
              </a:rPr>
              <a:t>CESAM no había continuado post escisión con las actividades de la escindida. </a:t>
            </a:r>
            <a:endParaRPr b="0" lang="en-US" sz="2000" spc="-1" strike="noStrike">
              <a:solidFill>
                <a:srgbClr val="000000"/>
              </a:solidFill>
              <a:latin typeface="Calibri"/>
            </a:endParaRPr>
          </a:p>
          <a:p>
            <a:pPr marL="325800" indent="-325800" algn="ct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Se puede abandonar la actividad principal y mantener las vinculadas (actividades complementarias o integradas). Se puede mantener solo alguna que le sea complementaria o ampliarla con integraciones horizontales o verticales. </a:t>
            </a:r>
            <a:endParaRPr b="0" lang="en-US" sz="2000" spc="-1" strike="noStrike">
              <a:solidFill>
                <a:srgbClr val="000000"/>
              </a:solidFill>
              <a:latin typeface="Calibri"/>
            </a:endParaRPr>
          </a:p>
          <a:p>
            <a:pPr marL="325800" indent="-325800" algn="ct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Merno S.A. tenia como actividad principal la prestaciones el servicio de salud humana y para ello contaba un inmueble, maquinaria e instalaciones y persona humano.</a:t>
            </a:r>
            <a:endParaRPr b="0" lang="en-US" sz="2000" spc="-1" strike="noStrike">
              <a:solidFill>
                <a:srgbClr val="000000"/>
              </a:solidFill>
              <a:latin typeface="Calibri"/>
            </a:endParaRPr>
          </a:p>
          <a:p>
            <a:pPr marL="325800" indent="-325800" algn="ct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CSAM, post escisión, dio en locación a Merno el inmueble en el que venia explotando un centro de cuidados respiratorios.  Inmueble con características que lo hacen apto para la prestación de servicios de salud que venia realizando Merno y cuyo objeto esta vinculado con la escisionaria. </a:t>
            </a:r>
            <a:endParaRPr b="0" lang="en-US" sz="2000" spc="-1" strike="noStrike">
              <a:solidFill>
                <a:srgbClr val="000000"/>
              </a:solidFill>
              <a:latin typeface="Calibri"/>
            </a:endParaRPr>
          </a:p>
          <a:p>
            <a:pPr marL="325800" indent="-325800" algn="ct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CSAM actividad vinculada porque el alquiler del inmueble tiene como finalidad la prestación del servicio de salud. Tambíén la prestación de servicios de alimentación están vinculados a la salud</a:t>
            </a:r>
            <a:endParaRPr b="0" lang="en-US" sz="2000" spc="-1" strike="noStrike">
              <a:solidFill>
                <a:srgbClr val="000000"/>
              </a:solidFill>
              <a:latin typeface="Calibri"/>
            </a:endParaRPr>
          </a:p>
          <a:p>
            <a:pPr marL="325800" indent="0" algn="ctr">
              <a:lnSpc>
                <a:spcPct val="10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25800"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25800"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136" name="Picture 2" descr=""/>
          <p:cNvPicPr/>
          <p:nvPr/>
        </p:nvPicPr>
        <p:blipFill>
          <a:blip r:embed="rId1"/>
          <a:srcRect l="0" t="0" r="79623" b="0"/>
          <a:stretch/>
        </p:blipFill>
        <p:spPr>
          <a:xfrm>
            <a:off x="0" y="5562720"/>
            <a:ext cx="465120" cy="1295280"/>
          </a:xfrm>
          <a:prstGeom prst="rect">
            <a:avLst/>
          </a:prstGeom>
          <a:ln w="0">
            <a:noFill/>
          </a:ln>
        </p:spPr>
      </p:pic>
      <p:sp>
        <p:nvSpPr>
          <p:cNvPr id="137"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739607-F7B8-44D6-A8C1-2A6A67E2050C}"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836280" y="468360"/>
            <a:ext cx="10969560" cy="5742000"/>
          </a:xfrm>
          <a:prstGeom prst="rect">
            <a:avLst/>
          </a:prstGeom>
          <a:noFill/>
          <a:ln w="9360">
            <a:solidFill>
              <a:srgbClr val="1f497d"/>
            </a:solidFill>
            <a:miter/>
          </a:ln>
        </p:spPr>
        <p:txBody>
          <a:bodyPr anchor="t">
            <a:normAutofit/>
          </a:bodyPr>
          <a:p>
            <a:pPr marL="34308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Actividad</a:t>
            </a:r>
            <a:endParaRPr b="0" lang="en-US" sz="2800" spc="-1" strike="noStrike">
              <a:solidFill>
                <a:srgbClr val="000000"/>
              </a:solidFill>
              <a:latin typeface="Calibri"/>
            </a:endParaRPr>
          </a:p>
          <a:p>
            <a:pPr marL="34308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800" spc="-1" strike="noStrike">
                <a:solidFill>
                  <a:srgbClr val="4f81bd"/>
                </a:solidFill>
                <a:latin typeface="Aptos SemiBold"/>
              </a:rPr>
              <a:t>No se pudo acreditar la continuidad en la explotación.</a:t>
            </a:r>
            <a:endParaRPr b="0" lang="en-US" sz="2800" spc="-1" strike="noStrike">
              <a:solidFill>
                <a:srgbClr val="000000"/>
              </a:solidFill>
              <a:latin typeface="Calibri"/>
            </a:endParaRPr>
          </a:p>
          <a:p>
            <a:pPr marL="34308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000" spc="-1" strike="noStrike">
                <a:solidFill>
                  <a:srgbClr val="c0504d"/>
                </a:solidFill>
                <a:latin typeface="Aptos Narrow"/>
              </a:rPr>
              <a:t>Grupo República S.A. c/  AFIP-DGI, CNCAF, V. 19/18/2009; CSJN 20/12/11</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Venta del Edificio República por el Banco Republica a la Sociedad Republica Compañía de Inversiones. Encuadre en 77 inciso c).</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 </a:t>
            </a:r>
            <a:r>
              <a:rPr b="0" lang="es-AR" sz="2000" spc="-1" strike="noStrike">
                <a:solidFill>
                  <a:srgbClr val="000000"/>
                </a:solidFill>
                <a:latin typeface="Aptos Narrow"/>
              </a:rPr>
              <a:t>77 c) requiere transferencia de una universalidad (fondo de comercio), pero puede referirse a un bien cuya explotación puede ser un negocio en si mismo.</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Narrow"/>
              </a:rPr>
              <a:t>Al momento de la transferencia el edificio no estaba terminado, y el Banco República no había comenzado a desarrollar la actividad inmobiliaria respecto del edificio. </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000" spc="-1" strike="noStrike">
                <a:solidFill>
                  <a:srgbClr val="4f81bd"/>
                </a:solidFill>
                <a:latin typeface="Aptos Narrow"/>
              </a:rPr>
              <a:t>La actividad de la empresa compradora comenzó con la compra del edificio, no hubo continuación en la explotación de un negocio en marcha.</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AR" sz="2000" spc="-1" strike="noStrike">
                <a:solidFill>
                  <a:srgbClr val="000000"/>
                </a:solidFill>
                <a:latin typeface="Aptos Narrow"/>
              </a:rPr>
              <a:t>  </a:t>
            </a:r>
            <a:endParaRPr b="0" lang="en-US" sz="2000" spc="-1" strike="noStrike">
              <a:solidFill>
                <a:srgbClr val="000000"/>
              </a:solidFill>
              <a:latin typeface="Calibri"/>
            </a:endParaRPr>
          </a:p>
          <a:p>
            <a:pPr marL="343080"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0" algn="ctr">
              <a:lnSpc>
                <a:spcPct val="10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139" name="Picture 2" descr=""/>
          <p:cNvPicPr/>
          <p:nvPr/>
        </p:nvPicPr>
        <p:blipFill>
          <a:blip r:embed="rId1"/>
          <a:srcRect l="0" t="0" r="79623" b="0"/>
          <a:stretch/>
        </p:blipFill>
        <p:spPr>
          <a:xfrm>
            <a:off x="0" y="5562720"/>
            <a:ext cx="465120" cy="1295280"/>
          </a:xfrm>
          <a:prstGeom prst="rect">
            <a:avLst/>
          </a:prstGeom>
          <a:ln w="0">
            <a:noFill/>
          </a:ln>
        </p:spPr>
      </p:pic>
      <p:sp>
        <p:nvSpPr>
          <p:cNvPr id="140"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20D738-E998-425E-A217-6ABE86F1F45C}"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531720" y="837720"/>
            <a:ext cx="11125440" cy="4953240"/>
          </a:xfrm>
          <a:prstGeom prst="rect">
            <a:avLst/>
          </a:prstGeom>
          <a:noFill/>
          <a:ln w="9360">
            <a:solidFill>
              <a:srgbClr val="4f81bd"/>
            </a:solidFill>
            <a:miter/>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Mantenimiento de Actividad</a:t>
            </a:r>
            <a:br>
              <a:rPr sz="2800"/>
            </a:br>
            <a:r>
              <a:rPr b="1" i="1" lang="es-ES" sz="2800" spc="-1" strike="noStrike">
                <a:solidFill>
                  <a:srgbClr val="4f81bd"/>
                </a:solidFill>
                <a:latin typeface="Aptos"/>
              </a:rPr>
              <a:t>“Solo se realizaron gastos de mantenimiento”</a:t>
            </a:r>
            <a:br>
              <a:rPr sz="2800"/>
            </a:br>
            <a:br>
              <a:rPr sz="2800"/>
            </a:br>
            <a:r>
              <a:rPr b="1" i="1" lang="es-ES" sz="2000" spc="-1" strike="noStrike">
                <a:solidFill>
                  <a:srgbClr val="c0504d"/>
                </a:solidFill>
                <a:latin typeface="Aptos"/>
              </a:rPr>
              <a:t>Mocalu S.A. c/ EN AFIP s/ DGI CNCAF, I, 4/09/2018</a:t>
            </a:r>
            <a:br>
              <a:rPr sz="2000"/>
            </a:br>
            <a:br>
              <a:rPr sz="2000"/>
            </a:br>
            <a:r>
              <a:rPr b="1" lang="es-ES" sz="2000" spc="-1" strike="noStrike">
                <a:solidFill>
                  <a:srgbClr val="4f81bd"/>
                </a:solidFill>
                <a:latin typeface="Aptos Narrow"/>
              </a:rPr>
              <a:t>Escision. </a:t>
            </a:r>
            <a:br>
              <a:rPr sz="2000"/>
            </a:br>
            <a:r>
              <a:rPr b="0" lang="es-ES" sz="2000" spc="-1" strike="noStrike">
                <a:solidFill>
                  <a:srgbClr val="000000"/>
                </a:solidFill>
                <a:latin typeface="Aptos Narrow"/>
              </a:rPr>
              <a:t>Mocalu escinde en Fudelco.</a:t>
            </a:r>
            <a:br>
              <a:rPr sz="2000"/>
            </a:br>
            <a:r>
              <a:rPr b="0" lang="es-ES" sz="2000" spc="-1" strike="noStrike">
                <a:solidFill>
                  <a:srgbClr val="000000"/>
                </a:solidFill>
                <a:latin typeface="Aptos Narrow"/>
              </a:rPr>
              <a:t>Fudelco no había realizado actividades en el tiempo requerido. </a:t>
            </a:r>
            <a:br>
              <a:rPr sz="2000"/>
            </a:br>
            <a:r>
              <a:rPr b="0" lang="es-ES" sz="2000" spc="-1" strike="noStrike">
                <a:solidFill>
                  <a:srgbClr val="000000"/>
                </a:solidFill>
                <a:latin typeface="Aptos Narrow"/>
              </a:rPr>
              <a:t>Acreditación de la efectiva prestación de servicios inmobiliarios carece de prueba adecuada. </a:t>
            </a:r>
            <a:br>
              <a:rPr sz="2000"/>
            </a:br>
            <a:r>
              <a:rPr b="0" lang="es-ES" sz="2000" spc="-1" strike="noStrike">
                <a:solidFill>
                  <a:srgbClr val="000000"/>
                </a:solidFill>
                <a:latin typeface="Aptos Narrow"/>
              </a:rPr>
              <a:t>3 facturas (empresa de seguridad y empresa de alambrados). </a:t>
            </a:r>
            <a:br>
              <a:rPr sz="2000"/>
            </a:br>
            <a:br>
              <a:rPr sz="2000"/>
            </a:br>
            <a:r>
              <a:rPr b="1" i="1" lang="es-ES" sz="2000" spc="-1" strike="noStrike">
                <a:solidFill>
                  <a:srgbClr val="4f81bd"/>
                </a:solidFill>
                <a:latin typeface="Aptos Narrow"/>
              </a:rPr>
              <a:t>No desarrollo actividad empresarial sino solo efectuó gastos de mantenimiento de la propiedad inmobiliaria. </a:t>
            </a:r>
            <a:br>
              <a:rPr sz="2000"/>
            </a:br>
            <a:endParaRPr b="0" lang="en-US" sz="2000" spc="-1" strike="noStrike">
              <a:solidFill>
                <a:srgbClr val="000000"/>
              </a:solidFill>
              <a:latin typeface="Calibri"/>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446120" y="41400"/>
            <a:ext cx="9601200" cy="7128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Requisitos vinculados a la actividad </a:t>
            </a:r>
            <a:endParaRPr b="0" lang="en-US" sz="2800" spc="-1" strike="noStrike">
              <a:solidFill>
                <a:srgbClr val="000000"/>
              </a:solidFill>
              <a:latin typeface="Calibri"/>
            </a:endParaRPr>
          </a:p>
        </p:txBody>
      </p:sp>
      <p:sp>
        <p:nvSpPr>
          <p:cNvPr id="90" name="CuadroTexto 13"/>
          <p:cNvSpPr/>
          <p:nvPr/>
        </p:nvSpPr>
        <p:spPr>
          <a:xfrm>
            <a:off x="150840" y="754200"/>
            <a:ext cx="11887200" cy="643032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marL="285840" indent="-285840" algn="just">
              <a:lnSpc>
                <a:spcPct val="107000"/>
              </a:lnSpc>
              <a:spcAft>
                <a:spcPts val="799"/>
              </a:spcAft>
              <a:buClr>
                <a:srgbClr val="4f81b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2000" spc="-1" strike="noStrike">
                <a:solidFill>
                  <a:srgbClr val="4f81bd"/>
                </a:solidFill>
                <a:latin typeface="Aptos"/>
              </a:rPr>
              <a:t>Empresa en marcha: </a:t>
            </a:r>
            <a:r>
              <a:rPr b="0" lang="es-ES" sz="2000" spc="-1" strike="noStrike">
                <a:solidFill>
                  <a:srgbClr val="000000"/>
                </a:solidFill>
                <a:latin typeface="Aptos Narrow"/>
              </a:rPr>
              <a:t>I) Que a la fecha de la reorganización, las empresas que se reorganizan se encuentren en marcha: se entenderá que tal condición se cumple, cuando se encuentren desarrollando las </a:t>
            </a:r>
            <a:r>
              <a:rPr b="1" lang="es-ES" sz="2000" spc="-1" strike="noStrike">
                <a:solidFill>
                  <a:srgbClr val="000000"/>
                </a:solidFill>
                <a:latin typeface="Aptos Narrow"/>
              </a:rPr>
              <a:t>actividades objeto de la empresa</a:t>
            </a:r>
            <a:r>
              <a:rPr b="0" lang="es-ES" sz="2000" spc="-1" strike="noStrike">
                <a:solidFill>
                  <a:srgbClr val="000000"/>
                </a:solidFill>
                <a:latin typeface="Aptos Narrow"/>
              </a:rPr>
              <a:t> o, cuando habiendo cesado éstas, el cese se hubiera producido dentro de los DIECIOCHO (18) meses anteriores a la fecha de la reorganización.</a:t>
            </a:r>
            <a:endParaRPr b="0" lang="en-US" sz="2000" spc="-1" strike="noStrike">
              <a:solidFill>
                <a:srgbClr val="000000"/>
              </a:solidFill>
              <a:latin typeface="Calibri"/>
            </a:endParaRPr>
          </a:p>
          <a:p>
            <a:pPr marL="285840" indent="-285840" algn="just">
              <a:lnSpc>
                <a:spcPct val="107000"/>
              </a:lnSpc>
              <a:spcAft>
                <a:spcPts val="799"/>
              </a:spcAft>
              <a:buClr>
                <a:srgbClr val="4f81b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4f81bd"/>
                </a:solidFill>
                <a:latin typeface="Aptos"/>
              </a:rPr>
              <a:t>Actividad anteriores iguales o vinculadas: </a:t>
            </a:r>
            <a:r>
              <a:rPr b="0" lang="es-ES" sz="2000" spc="-1" strike="noStrike">
                <a:solidFill>
                  <a:srgbClr val="000000"/>
                </a:solidFill>
                <a:latin typeface="Aptos Narrow"/>
              </a:rPr>
              <a:t>III) Que las empresas hayan desarrollado actividades iguales o vinculadas durante los DOCE (12) meses inmediatos anteriores a la fecha de la reorganización o a la de cese, si éste se hubiera producido dentro del término establecido en el apartado I) precedente o, en ambos casos, durante el lapso de su existencia, si éste fuera menor.</a:t>
            </a:r>
            <a:endParaRPr b="0" lang="en-US" sz="2000" spc="-1" strike="noStrike">
              <a:solidFill>
                <a:srgbClr val="000000"/>
              </a:solidFill>
              <a:latin typeface="Calibri"/>
            </a:endParaRPr>
          </a:p>
          <a:p>
            <a:pPr marL="285840" indent="-28584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Se considerará como actividad vinculada a aquella que coadyuve o complemente un proceso industrial, comercial o administrativo, o que tienda a un logro o finalidad que guarde relación con la otra actividad (integración horizontal y/o vertical).</a:t>
            </a:r>
            <a:endParaRPr b="0" lang="en-US" sz="2000" spc="-1" strike="noStrike">
              <a:solidFill>
                <a:srgbClr val="000000"/>
              </a:solidFill>
              <a:latin typeface="Calibri"/>
            </a:endParaRPr>
          </a:p>
          <a:p>
            <a:pPr marL="285840" indent="-285840" algn="just">
              <a:lnSpc>
                <a:spcPct val="107000"/>
              </a:lnSpc>
              <a:spcAft>
                <a:spcPts val="799"/>
              </a:spcAft>
              <a:buClr>
                <a:srgbClr val="4f81b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4f81bd"/>
                </a:solidFill>
                <a:latin typeface="Aptos"/>
              </a:rPr>
              <a:t>Mantenimiento de la actividad: </a:t>
            </a:r>
            <a:r>
              <a:rPr b="0" lang="es-ES" sz="2000" spc="-1" strike="noStrike">
                <a:solidFill>
                  <a:srgbClr val="000000"/>
                </a:solidFill>
                <a:latin typeface="Aptos Narrow"/>
              </a:rPr>
              <a:t>II) Que continúen desarrollando por un período no inferior a DOS (2) años, contados a partir de la fecha de la reorganización, alguna de las actividades de la o las empresas reestructuradas u otras vinculadas con aquéllas —permanencia de la explotación dentro del mismo ramo—, de forma tal que los bienes y/o servicios que produzcan y/o comercialicen la o las empresas continuadoras posean características esencialmente similares a los que producían y/o comercializaban la o las empresas antecesoras.</a:t>
            </a:r>
            <a:endParaRPr b="0" lang="en-US" sz="2000" spc="-1" strike="noStrike">
              <a:solidFill>
                <a:srgbClr val="000000"/>
              </a:solidFill>
              <a:latin typeface="Calibri"/>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2130120"/>
            <a:ext cx="10360080" cy="146988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4400" spc="-1" strike="noStrike">
                <a:solidFill>
                  <a:srgbClr val="000000"/>
                </a:solidFill>
                <a:latin typeface="Arial Unicode MS"/>
              </a:rPr>
              <a:t>Muchas gracias</a:t>
            </a:r>
            <a:endParaRPr b="0" lang="en-US" sz="4400" spc="-1" strike="noStrike">
              <a:solidFill>
                <a:srgbClr val="000000"/>
              </a:solidFill>
              <a:latin typeface="Calibri"/>
            </a:endParaRPr>
          </a:p>
        </p:txBody>
      </p:sp>
      <p:sp>
        <p:nvSpPr>
          <p:cNvPr id="143"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1D2D12-8F24-41B4-82EE-9C19B885E1F8}"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1" name=""/>
          <p:cNvGraphicFramePr/>
          <p:nvPr/>
        </p:nvGraphicFramePr>
        <p:xfrm>
          <a:off x="379440" y="228600"/>
          <a:ext cx="11658600" cy="6400800"/>
        </p:xfrm>
        <a:graphic>
          <a:graphicData uri="http://schemas.openxmlformats.org/drawingml/2006/table">
            <a:tbl>
              <a:tblPr/>
              <a:tblGrid>
                <a:gridCol w="7412040"/>
                <a:gridCol w="1833480"/>
                <a:gridCol w="2413080"/>
              </a:tblGrid>
              <a:tr h="1400040">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2400" spc="-1" strike="noStrike">
                          <a:solidFill>
                            <a:srgbClr val="ffffff"/>
                          </a:solidFill>
                          <a:latin typeface="Arial Unicode MS"/>
                          <a:ea typeface="Arial Unicode MS"/>
                        </a:rPr>
                        <a:t>Requisitos</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2400" spc="-1" strike="noStrike">
                          <a:solidFill>
                            <a:srgbClr val="ffffff"/>
                          </a:solidFill>
                          <a:latin typeface="Arial Unicode MS"/>
                          <a:ea typeface="Arial Unicode MS"/>
                        </a:rPr>
                        <a:t>Fusión y escisión</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2400" spc="-1" strike="noStrike">
                          <a:solidFill>
                            <a:srgbClr val="ffffff"/>
                          </a:solidFill>
                          <a:latin typeface="Arial Unicode MS"/>
                          <a:ea typeface="Arial Unicode MS"/>
                        </a:rPr>
                        <a:t>Transferencia conjunto económico</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9228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000000"/>
                          </a:solidFill>
                          <a:latin typeface="Arial Unicode MS"/>
                          <a:ea typeface="Arial Unicode MS"/>
                        </a:rPr>
                        <a:t>Mantenimiento de la actividad de la antecesora</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9228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000000"/>
                          </a:solidFill>
                          <a:latin typeface="Arial Unicode MS"/>
                          <a:ea typeface="Arial Unicode MS"/>
                        </a:rPr>
                        <a:t>Mantenimiento del importe de participación</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0640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000000"/>
                          </a:solidFill>
                          <a:latin typeface="Arial Unicode MS"/>
                          <a:ea typeface="Arial Unicode MS"/>
                        </a:rPr>
                        <a:t>Empresas en marcha</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71748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000000"/>
                          </a:solidFill>
                          <a:latin typeface="Arial Unicode MS"/>
                          <a:ea typeface="Arial Unicode MS"/>
                        </a:rPr>
                        <a:t>Actividades anteriores iguales o vinculadas</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9228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000000"/>
                          </a:solidFill>
                          <a:latin typeface="Arial Unicode MS"/>
                          <a:ea typeface="Arial Unicode MS"/>
                        </a:rPr>
                        <a:t>Comunicación a la AFIP</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40004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000000"/>
                          </a:solidFill>
                          <a:latin typeface="Arial Unicode MS"/>
                          <a:ea typeface="Arial Unicode MS"/>
                        </a:rPr>
                        <a:t>Precedencia de 80% de participación en el capital para traslado de quebrantos y beneficios de los regímenes de promoción</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92" name="4 Imagen" descr="tilde.jpg"/>
          <p:cNvPicPr/>
          <p:nvPr/>
        </p:nvPicPr>
        <p:blipFill>
          <a:blip r:embed="rId1"/>
          <a:stretch/>
        </p:blipFill>
        <p:spPr>
          <a:xfrm>
            <a:off x="8151840" y="1905120"/>
            <a:ext cx="585720" cy="533160"/>
          </a:xfrm>
          <a:prstGeom prst="rect">
            <a:avLst/>
          </a:prstGeom>
          <a:ln w="0">
            <a:noFill/>
          </a:ln>
        </p:spPr>
      </p:pic>
      <p:pic>
        <p:nvPicPr>
          <p:cNvPr id="93" name="5 Imagen" descr="tilde.jpg"/>
          <p:cNvPicPr/>
          <p:nvPr/>
        </p:nvPicPr>
        <p:blipFill>
          <a:blip r:embed="rId2"/>
          <a:stretch/>
        </p:blipFill>
        <p:spPr>
          <a:xfrm>
            <a:off x="8151840" y="2514600"/>
            <a:ext cx="585720" cy="533520"/>
          </a:xfrm>
          <a:prstGeom prst="rect">
            <a:avLst/>
          </a:prstGeom>
          <a:ln w="0">
            <a:noFill/>
          </a:ln>
        </p:spPr>
      </p:pic>
      <p:pic>
        <p:nvPicPr>
          <p:cNvPr id="94" name="6 Imagen" descr="tilde.jpg"/>
          <p:cNvPicPr/>
          <p:nvPr/>
        </p:nvPicPr>
        <p:blipFill>
          <a:blip r:embed="rId3"/>
          <a:stretch/>
        </p:blipFill>
        <p:spPr>
          <a:xfrm>
            <a:off x="10209240" y="5257800"/>
            <a:ext cx="585720" cy="533520"/>
          </a:xfrm>
          <a:prstGeom prst="rect">
            <a:avLst/>
          </a:prstGeom>
          <a:ln w="0">
            <a:noFill/>
          </a:ln>
        </p:spPr>
      </p:pic>
      <p:pic>
        <p:nvPicPr>
          <p:cNvPr id="95" name="7 Imagen" descr="tilde.jpg"/>
          <p:cNvPicPr/>
          <p:nvPr/>
        </p:nvPicPr>
        <p:blipFill>
          <a:blip r:embed="rId4"/>
          <a:stretch/>
        </p:blipFill>
        <p:spPr>
          <a:xfrm>
            <a:off x="8151840" y="5257800"/>
            <a:ext cx="585720" cy="533520"/>
          </a:xfrm>
          <a:prstGeom prst="rect">
            <a:avLst/>
          </a:prstGeom>
          <a:ln w="0">
            <a:noFill/>
          </a:ln>
        </p:spPr>
      </p:pic>
      <p:pic>
        <p:nvPicPr>
          <p:cNvPr id="96" name="8 Imagen" descr="tilde.jpg"/>
          <p:cNvPicPr/>
          <p:nvPr/>
        </p:nvPicPr>
        <p:blipFill>
          <a:blip r:embed="rId5"/>
          <a:stretch/>
        </p:blipFill>
        <p:spPr>
          <a:xfrm>
            <a:off x="10209240" y="2514600"/>
            <a:ext cx="585720" cy="533520"/>
          </a:xfrm>
          <a:prstGeom prst="rect">
            <a:avLst/>
          </a:prstGeom>
          <a:ln w="0">
            <a:noFill/>
          </a:ln>
        </p:spPr>
      </p:pic>
      <p:pic>
        <p:nvPicPr>
          <p:cNvPr id="97" name="9 Imagen" descr="tilde.jpg"/>
          <p:cNvPicPr/>
          <p:nvPr/>
        </p:nvPicPr>
        <p:blipFill>
          <a:blip r:embed="rId6"/>
          <a:stretch/>
        </p:blipFill>
        <p:spPr>
          <a:xfrm>
            <a:off x="10209240" y="1905120"/>
            <a:ext cx="585720" cy="533160"/>
          </a:xfrm>
          <a:prstGeom prst="rect">
            <a:avLst/>
          </a:prstGeom>
          <a:ln w="0">
            <a:noFill/>
          </a:ln>
        </p:spPr>
      </p:pic>
      <p:pic>
        <p:nvPicPr>
          <p:cNvPr id="98" name="10 Imagen" descr="tilde.jpg"/>
          <p:cNvPicPr/>
          <p:nvPr/>
        </p:nvPicPr>
        <p:blipFill>
          <a:blip r:embed="rId7"/>
          <a:stretch/>
        </p:blipFill>
        <p:spPr>
          <a:xfrm>
            <a:off x="8151840" y="3124080"/>
            <a:ext cx="585720" cy="533520"/>
          </a:xfrm>
          <a:prstGeom prst="rect">
            <a:avLst/>
          </a:prstGeom>
          <a:ln w="0">
            <a:noFill/>
          </a:ln>
        </p:spPr>
      </p:pic>
      <p:pic>
        <p:nvPicPr>
          <p:cNvPr id="99" name="11 Imagen" descr="tilde.jpg"/>
          <p:cNvPicPr/>
          <p:nvPr/>
        </p:nvPicPr>
        <p:blipFill>
          <a:blip r:embed="rId8"/>
          <a:stretch/>
        </p:blipFill>
        <p:spPr>
          <a:xfrm>
            <a:off x="8151840" y="3809880"/>
            <a:ext cx="585720" cy="533520"/>
          </a:xfrm>
          <a:prstGeom prst="rect">
            <a:avLst/>
          </a:prstGeom>
          <a:ln w="0">
            <a:noFill/>
          </a:ln>
        </p:spPr>
      </p:pic>
      <p:pic>
        <p:nvPicPr>
          <p:cNvPr id="100" name="12 Imagen" descr="tilde.jpg"/>
          <p:cNvPicPr/>
          <p:nvPr/>
        </p:nvPicPr>
        <p:blipFill>
          <a:blip r:embed="rId9"/>
          <a:stretch/>
        </p:blipFill>
        <p:spPr>
          <a:xfrm>
            <a:off x="8151840" y="4343400"/>
            <a:ext cx="585720" cy="533520"/>
          </a:xfrm>
          <a:prstGeom prst="rect">
            <a:avLst/>
          </a:prstGeom>
          <a:ln w="0">
            <a:noFill/>
          </a:ln>
        </p:spPr>
      </p:pic>
      <p:pic>
        <p:nvPicPr>
          <p:cNvPr id="101" name="15 Imagen" descr="tilde.jpg"/>
          <p:cNvPicPr/>
          <p:nvPr/>
        </p:nvPicPr>
        <p:blipFill>
          <a:blip r:embed="rId10"/>
          <a:stretch/>
        </p:blipFill>
        <p:spPr>
          <a:xfrm>
            <a:off x="10209240" y="4343400"/>
            <a:ext cx="585720" cy="533520"/>
          </a:xfrm>
          <a:prstGeom prst="rect">
            <a:avLst/>
          </a:prstGeom>
          <a:ln w="0">
            <a:noFill/>
          </a:ln>
        </p:spPr>
      </p:pic>
      <p:pic>
        <p:nvPicPr>
          <p:cNvPr id="102" name="Imagen 2" descr=""/>
          <p:cNvPicPr/>
          <p:nvPr/>
        </p:nvPicPr>
        <p:blipFill>
          <a:blip r:embed="rId11"/>
          <a:stretch/>
        </p:blipFill>
        <p:spPr>
          <a:xfrm>
            <a:off x="11036160" y="3048120"/>
            <a:ext cx="1133640" cy="1187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522440" y="100080"/>
            <a:ext cx="8874000" cy="71424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800"/>
            </a:br>
            <a:br>
              <a:rPr sz="2800"/>
            </a:br>
            <a:r>
              <a:rPr b="1" lang="es-ES" sz="2800" spc="-1" strike="noStrike">
                <a:solidFill>
                  <a:srgbClr val="4f81bd"/>
                </a:solidFill>
                <a:latin typeface="Aptos"/>
              </a:rPr>
              <a:t>Fecha Efectiva de Reorganización</a:t>
            </a:r>
            <a:br>
              <a:rPr sz="2800"/>
            </a:br>
            <a:r>
              <a:rPr b="0" i="1" lang="es-MX" sz="2800" spc="-1" strike="noStrike">
                <a:solidFill>
                  <a:srgbClr val="4f81bd"/>
                </a:solidFill>
                <a:latin typeface="Aptos"/>
              </a:rPr>
              <a:t>“No anticiparse ni retrasarse” </a:t>
            </a:r>
            <a:br>
              <a:rPr sz="2800"/>
            </a:br>
            <a:endParaRPr b="0" lang="en-US" sz="2800" spc="-1" strike="noStrike">
              <a:solidFill>
                <a:srgbClr val="000000"/>
              </a:solidFill>
              <a:latin typeface="Calibri"/>
            </a:endParaRPr>
          </a:p>
        </p:txBody>
      </p:sp>
      <p:sp>
        <p:nvSpPr>
          <p:cNvPr id="104" name="CuadroTexto 4"/>
          <p:cNvSpPr/>
          <p:nvPr/>
        </p:nvSpPr>
        <p:spPr>
          <a:xfrm>
            <a:off x="428760" y="1676520"/>
            <a:ext cx="11656800" cy="461700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marL="457200" indent="-457200" algn="ctr">
              <a:lnSpc>
                <a:spcPct val="107000"/>
              </a:lnSpc>
              <a:spcAft>
                <a:spcPts val="7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MX" sz="2000" spc="-1" strike="noStrike">
                <a:solidFill>
                  <a:srgbClr val="000000"/>
                </a:solidFill>
                <a:latin typeface="Aptos Narrow"/>
              </a:rPr>
              <a:t>Realidad de la operatoria.</a:t>
            </a:r>
            <a:endParaRPr b="0" lang="en-US" sz="2000" spc="-1" strike="noStrike">
              <a:solidFill>
                <a:srgbClr val="000000"/>
              </a:solidFill>
              <a:latin typeface="Calibri"/>
            </a:endParaRPr>
          </a:p>
          <a:p>
            <a:pPr marL="457200" indent="-457200" algn="ctr">
              <a:lnSpc>
                <a:spcPct val="107000"/>
              </a:lnSpc>
              <a:spcAft>
                <a:spcPts val="7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MX" sz="2000" spc="-1" strike="noStrike">
                <a:solidFill>
                  <a:srgbClr val="000000"/>
                </a:solidFill>
                <a:latin typeface="Aptos Narrow"/>
              </a:rPr>
              <a:t>Que la continuadora pase a ser titular de los negocios de la antecesora en la Fecha Efectiva.</a:t>
            </a:r>
            <a:endParaRPr b="0" lang="en-US" sz="2000" spc="-1" strike="noStrike">
              <a:solidFill>
                <a:srgbClr val="000000"/>
              </a:solidFill>
              <a:latin typeface="Calibri"/>
            </a:endParaRPr>
          </a:p>
          <a:p>
            <a:pPr marL="457200" indent="-457200" algn="ctr">
              <a:lnSpc>
                <a:spcPct val="107000"/>
              </a:lnSpc>
              <a:spcAft>
                <a:spcPts val="7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MX" sz="2000" spc="-1" strike="noStrike">
                <a:solidFill>
                  <a:srgbClr val="000000"/>
                </a:solidFill>
                <a:latin typeface="Aptos Narrow"/>
              </a:rPr>
              <a:t>Si la antecesora realiza actividades correspondientes al negocio que se transfiere tiene que ser por cuenta y orden de la continuadora (“si legalmente la continuadora se halla imposibilitada formalmente de realizar sus propias actividades”).</a:t>
            </a:r>
            <a:endParaRPr b="0" lang="en-US" sz="2000" spc="-1" strike="noStrike">
              <a:solidFill>
                <a:srgbClr val="000000"/>
              </a:solidFill>
              <a:latin typeface="Calibri"/>
            </a:endParaRPr>
          </a:p>
          <a:p>
            <a:pPr marL="457200" indent="-457200" algn="ctr">
              <a:lnSpc>
                <a:spcPct val="107000"/>
              </a:lnSpc>
              <a:spcAft>
                <a:spcPts val="799"/>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457200" indent="-457200" algn="ctr">
              <a:lnSpc>
                <a:spcPct val="107000"/>
              </a:lnSpc>
              <a:spcAft>
                <a:spcPts val="799"/>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s-MX" sz="2000" spc="-1" strike="noStrike">
                <a:solidFill>
                  <a:srgbClr val="c0504d"/>
                </a:solidFill>
                <a:latin typeface="Aptos Narrow"/>
              </a:rPr>
              <a:t>Cabaña Avicola Jorgu S.A. c/ EN- AFIP-DGI, CNCAF, V, 06/04/2017</a:t>
            </a:r>
            <a:endParaRPr b="0" lang="en-US" sz="2000" spc="-1" strike="noStrike">
              <a:solidFill>
                <a:srgbClr val="000000"/>
              </a:solidFill>
              <a:latin typeface="Calibri"/>
            </a:endParaRPr>
          </a:p>
          <a:p>
            <a:pPr marL="457200" indent="-457200" algn="ctr">
              <a:lnSpc>
                <a:spcPct val="107000"/>
              </a:lnSpc>
              <a:spcAft>
                <a:spcPts val="799"/>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s-MX" sz="2000" spc="-1" strike="noStrike">
                <a:solidFill>
                  <a:srgbClr val="000000"/>
                </a:solidFill>
                <a:latin typeface="Aptos Narrow"/>
              </a:rPr>
              <a:t>El argumento del apelante por el cual se pretende justificar el mantenimiento de las actividades por parte de la firma, con base a que había sido la única empresa que se hallaba habilitada para operar ante el ONCCA y SENASA  no merece ser atendido. </a:t>
            </a:r>
            <a:endParaRPr b="0" lang="en-US" sz="2000" spc="-1" strike="noStrike">
              <a:solidFill>
                <a:srgbClr val="000000"/>
              </a:solidFill>
              <a:latin typeface="Calibri"/>
            </a:endParaRPr>
          </a:p>
          <a:p>
            <a:pPr marL="457200" indent="-457200" algn="ctr">
              <a:lnSpc>
                <a:spcPct val="107000"/>
              </a:lnSpc>
              <a:spcAft>
                <a:spcPts val="799"/>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s-MX" sz="2000" spc="-1" strike="noStrike">
                <a:solidFill>
                  <a:srgbClr val="000000"/>
                </a:solidFill>
                <a:latin typeface="Aptos Narrow"/>
              </a:rPr>
              <a:t>No se ha demostrado la necesidad de que la firma continuara operando con posterioridad a la fusión y su disolución (“debe acreditarse que se trató de la única alternativa posible”).</a:t>
            </a:r>
            <a:endParaRPr b="0" lang="en-US" sz="2000" spc="-1" strike="noStrike">
              <a:solidFill>
                <a:srgbClr val="000000"/>
              </a:solidFill>
              <a:latin typeface="Calibri"/>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665440" y="457200"/>
            <a:ext cx="6324480" cy="9208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Empresas en marcha</a:t>
            </a:r>
            <a:br>
              <a:rPr sz="2800"/>
            </a:br>
            <a:r>
              <a:rPr b="0" i="1" lang="es-ES" sz="2800" spc="-1" strike="noStrike">
                <a:solidFill>
                  <a:srgbClr val="4f81bd"/>
                </a:solidFill>
                <a:latin typeface="Aptos"/>
              </a:rPr>
              <a:t>“Actividades Objeto de la Empresa”</a:t>
            </a:r>
            <a:r>
              <a:rPr b="1" lang="es-ES" sz="2800" spc="-1" strike="noStrike">
                <a:solidFill>
                  <a:srgbClr val="4f81bd"/>
                </a:solidFill>
                <a:latin typeface="Aptos"/>
              </a:rPr>
              <a:t> </a:t>
            </a:r>
            <a:endParaRPr b="0" lang="en-US" sz="2800" spc="-1" strike="noStrike">
              <a:solidFill>
                <a:srgbClr val="000000"/>
              </a:solidFill>
              <a:latin typeface="Calibri"/>
            </a:endParaRPr>
          </a:p>
        </p:txBody>
      </p:sp>
      <p:sp>
        <p:nvSpPr>
          <p:cNvPr id="106" name="CuadroTexto 13"/>
          <p:cNvSpPr/>
          <p:nvPr/>
        </p:nvSpPr>
        <p:spPr>
          <a:xfrm>
            <a:off x="403200" y="1752480"/>
            <a:ext cx="11506320" cy="439236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MX" sz="2000" spc="-1" strike="noStrike">
                <a:solidFill>
                  <a:srgbClr val="000000"/>
                </a:solidFill>
                <a:latin typeface="Aptos"/>
                <a:ea typeface="Arial"/>
              </a:rPr>
              <a:t>“</a:t>
            </a:r>
            <a:r>
              <a:rPr b="0" i="1" lang="es-MX" sz="2000" spc="-1" strike="noStrike">
                <a:solidFill>
                  <a:srgbClr val="000000"/>
                </a:solidFill>
                <a:latin typeface="Aptos"/>
                <a:ea typeface="Arial"/>
              </a:rPr>
              <a:t>Que a la fecha de la reorganización, las empresas que se reorganizan se encuentren en marcha”. </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MX" sz="2000" spc="-1" strike="noStrike">
                <a:solidFill>
                  <a:srgbClr val="000000"/>
                </a:solidFill>
                <a:latin typeface="Aptos"/>
                <a:ea typeface="Arial"/>
              </a:rPr>
              <a:t>“</a:t>
            </a:r>
            <a:r>
              <a:rPr b="0" i="1" lang="es-MX" sz="2000" spc="-1" strike="noStrike">
                <a:solidFill>
                  <a:srgbClr val="000000"/>
                </a:solidFill>
                <a:latin typeface="Aptos"/>
                <a:ea typeface="Arial"/>
              </a:rPr>
              <a:t>Se entenderá que tal condición se cumple cuando </a:t>
            </a:r>
            <a:r>
              <a:rPr b="1" i="1" lang="es-MX" sz="2000" spc="-1" strike="noStrike">
                <a:solidFill>
                  <a:srgbClr val="000000"/>
                </a:solidFill>
                <a:latin typeface="Aptos"/>
                <a:ea typeface="Arial"/>
              </a:rPr>
              <a:t>se encuentren desarrollando </a:t>
            </a:r>
            <a:r>
              <a:rPr b="1" i="1" lang="es-MX" sz="2000" spc="-1" strike="noStrike" u="sng">
                <a:solidFill>
                  <a:srgbClr val="000000"/>
                </a:solidFill>
                <a:uFillTx/>
                <a:latin typeface="Aptos"/>
                <a:ea typeface="Arial"/>
              </a:rPr>
              <a:t>actividades objeto </a:t>
            </a:r>
            <a:r>
              <a:rPr b="1" i="1" lang="es-MX" sz="2000" spc="-1" strike="noStrike">
                <a:solidFill>
                  <a:srgbClr val="000000"/>
                </a:solidFill>
                <a:latin typeface="Aptos"/>
                <a:ea typeface="Arial"/>
              </a:rPr>
              <a:t>de la empresa </a:t>
            </a:r>
            <a:r>
              <a:rPr b="0" i="1" lang="es-MX" sz="2000" spc="-1" strike="noStrike">
                <a:solidFill>
                  <a:srgbClr val="000000"/>
                </a:solidFill>
                <a:latin typeface="Aptos"/>
                <a:ea typeface="Arial"/>
              </a:rPr>
              <a:t>o, cuando  habiendo cesado estas, el cese se hubiera producido dentro de los </a:t>
            </a:r>
            <a:r>
              <a:rPr b="1" i="1" lang="es-MX" sz="2000" spc="-1" strike="noStrike">
                <a:solidFill>
                  <a:srgbClr val="000000"/>
                </a:solidFill>
                <a:latin typeface="Aptos"/>
                <a:ea typeface="Arial"/>
              </a:rPr>
              <a:t>18 meses antes fecha de la reorganización”</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MX" sz="2000" spc="-1" strike="noStrike">
                <a:solidFill>
                  <a:srgbClr val="c0504d"/>
                </a:solidFill>
                <a:latin typeface="Aptos"/>
                <a:ea typeface="Arial"/>
              </a:rPr>
              <a:t> </a:t>
            </a:r>
            <a:r>
              <a:rPr b="1" i="1" lang="es-MX" sz="2000" spc="-1" strike="noStrike">
                <a:solidFill>
                  <a:srgbClr val="c0504d"/>
                </a:solidFill>
                <a:latin typeface="Aptos"/>
                <a:ea typeface="Arial"/>
              </a:rPr>
              <a:t>Don Macerlino c/ Fisco Nacional. CSJN 20/4/2023</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MX" sz="2000" spc="-1" strike="noStrike">
                <a:solidFill>
                  <a:srgbClr val="000000"/>
                </a:solidFill>
                <a:latin typeface="Aptos"/>
                <a:ea typeface="Arial"/>
              </a:rPr>
              <a:t>¿Qué se entiende por desarrollar actividades objeto de la empresa?  </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ptos"/>
                <a:ea typeface="Arial"/>
              </a:rPr>
              <a:t>La ley no condiciona ser una empresa en marcha a una cuestión de mucha o poca actividad. </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ptos"/>
                <a:ea typeface="Arial"/>
              </a:rPr>
              <a:t>Hubo actividad aunque dicha actividad no haya generado ingresos, sino una empresa en etapa preparatoria o previa a la explotación comercial tampoco sería una empresa en marcha. </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ptos"/>
                <a:ea typeface="Arial"/>
              </a:rPr>
              <a:t>La norma no requiere producción y comercialización de bienes y servicios. </a:t>
            </a:r>
            <a:endParaRPr b="0" lang="en-US" sz="2000" spc="-1" strike="noStrike">
              <a:solidFill>
                <a:srgbClr val="000000"/>
              </a:solidFill>
              <a:latin typeface="Calibri"/>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665440" y="289080"/>
            <a:ext cx="6324480" cy="7128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800"/>
            </a:br>
            <a:br>
              <a:rPr sz="2800"/>
            </a:br>
            <a:r>
              <a:rPr b="1" lang="es-ES" sz="2800" spc="-1" strike="noStrike">
                <a:solidFill>
                  <a:srgbClr val="4f81bd"/>
                </a:solidFill>
                <a:latin typeface="Aptos"/>
              </a:rPr>
              <a:t>Empresas en marcha</a:t>
            </a:r>
            <a:br>
              <a:rPr sz="2800"/>
            </a:br>
            <a:r>
              <a:rPr b="1" lang="es-ES" sz="2800" spc="-1" strike="noStrike">
                <a:solidFill>
                  <a:srgbClr val="4f81bd"/>
                </a:solidFill>
                <a:latin typeface="Aptos"/>
              </a:rPr>
              <a:t> </a:t>
            </a:r>
            <a:r>
              <a:rPr b="0" i="1" lang="es-ES" sz="2800" spc="-1" strike="noStrike">
                <a:solidFill>
                  <a:srgbClr val="4f81bd"/>
                </a:solidFill>
                <a:latin typeface="Aptos"/>
              </a:rPr>
              <a:t>“Actividades Objeto de la Empresa”</a:t>
            </a:r>
            <a:r>
              <a:rPr b="1" lang="es-ES" sz="2800" spc="-1" strike="noStrike">
                <a:solidFill>
                  <a:srgbClr val="4f81bd"/>
                </a:solidFill>
                <a:latin typeface="Aptos"/>
              </a:rPr>
              <a:t> </a:t>
            </a:r>
            <a:br>
              <a:rPr sz="2800"/>
            </a:br>
            <a:br>
              <a:rPr sz="2800"/>
            </a:br>
            <a:endParaRPr b="0" lang="en-US" sz="2800" spc="-1" strike="noStrike">
              <a:solidFill>
                <a:srgbClr val="000000"/>
              </a:solidFill>
              <a:latin typeface="Calibri"/>
            </a:endParaRPr>
          </a:p>
        </p:txBody>
      </p:sp>
      <p:sp>
        <p:nvSpPr>
          <p:cNvPr id="108" name="CuadroTexto 13"/>
          <p:cNvSpPr/>
          <p:nvPr/>
        </p:nvSpPr>
        <p:spPr>
          <a:xfrm>
            <a:off x="237960" y="1730520"/>
            <a:ext cx="11963520" cy="408780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MX" sz="2000" spc="-1" strike="noStrike">
                <a:solidFill>
                  <a:srgbClr val="c0504d"/>
                </a:solidFill>
                <a:latin typeface="Aptos"/>
                <a:ea typeface="Arial"/>
              </a:rPr>
              <a:t>	</a:t>
            </a:r>
            <a:r>
              <a:rPr b="1" i="1" lang="es-MX" sz="2000" spc="-1" strike="noStrike">
                <a:solidFill>
                  <a:srgbClr val="c0504d"/>
                </a:solidFill>
                <a:latin typeface="Aptos"/>
                <a:ea typeface="Arial"/>
              </a:rPr>
              <a:t>	</a:t>
            </a:r>
            <a:r>
              <a:rPr b="1" i="1" lang="es-MX" sz="2000" spc="-1" strike="noStrike">
                <a:solidFill>
                  <a:srgbClr val="c0504d"/>
                </a:solidFill>
                <a:latin typeface="Aptos"/>
                <a:ea typeface="Arial"/>
              </a:rPr>
              <a:t>	</a:t>
            </a:r>
            <a:r>
              <a:rPr b="1" i="1" lang="es-MX" sz="2000" spc="-1" strike="noStrike">
                <a:solidFill>
                  <a:srgbClr val="c0504d"/>
                </a:solidFill>
                <a:latin typeface="Aptos"/>
                <a:ea typeface="Arial"/>
              </a:rPr>
              <a:t>	</a:t>
            </a:r>
            <a:r>
              <a:rPr b="1" i="1" lang="es-MX" sz="2000" spc="-1" strike="noStrike">
                <a:solidFill>
                  <a:srgbClr val="c0504d"/>
                </a:solidFill>
                <a:latin typeface="Aptos"/>
                <a:ea typeface="Arial"/>
              </a:rPr>
              <a:t>	</a:t>
            </a:r>
            <a:r>
              <a:rPr b="1" i="1" lang="es-MX" sz="2000" spc="-1" strike="noStrike">
                <a:solidFill>
                  <a:srgbClr val="c0504d"/>
                </a:solidFill>
                <a:latin typeface="Aptos"/>
                <a:ea typeface="Arial"/>
              </a:rPr>
              <a:t>	</a:t>
            </a:r>
            <a:r>
              <a:rPr b="1" i="1" lang="es-MX" sz="2000" spc="-1" strike="noStrike">
                <a:solidFill>
                  <a:srgbClr val="c0504d"/>
                </a:solidFill>
                <a:latin typeface="Aptos"/>
                <a:ea typeface="Arial"/>
              </a:rPr>
              <a:t>Don Macerlino c/ Fisco Nacional. CSJN 20/4/2023</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2000" spc="-1" strike="noStrike">
                <a:solidFill>
                  <a:srgbClr val="000000"/>
                </a:solidFill>
                <a:latin typeface="Aptos"/>
                <a:ea typeface="Arial"/>
              </a:rPr>
              <a:t>Comparación con otros requisitos Actividades Anteriores Iguales o Vinculadas y Mantenimiento de Actividad </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MX" sz="2000" spc="-1" strike="noStrike">
                <a:solidFill>
                  <a:srgbClr val="000000"/>
                </a:solidFill>
                <a:latin typeface="Aptos"/>
                <a:ea typeface="Arial"/>
              </a:rPr>
              <a:t>“</a:t>
            </a:r>
            <a:r>
              <a:rPr b="1" i="1" lang="es-MX" sz="2000" spc="-1" strike="noStrike">
                <a:solidFill>
                  <a:srgbClr val="000000"/>
                </a:solidFill>
                <a:latin typeface="Aptos"/>
                <a:ea typeface="Arial"/>
              </a:rPr>
              <a:t>Permanencia en la explotación del mismo ramo</a:t>
            </a:r>
            <a:r>
              <a:rPr b="0" lang="es-MX" sz="2000" spc="-1" strike="noStrike">
                <a:solidFill>
                  <a:srgbClr val="000000"/>
                </a:solidFill>
                <a:latin typeface="Aptos"/>
                <a:ea typeface="Arial"/>
              </a:rPr>
              <a:t>” alude a continuación de </a:t>
            </a:r>
            <a:r>
              <a:rPr b="1" lang="es-MX" sz="2000" spc="-1" strike="noStrike">
                <a:solidFill>
                  <a:srgbClr val="4f81bd"/>
                </a:solidFill>
                <a:latin typeface="Aptos"/>
                <a:ea typeface="Arial"/>
              </a:rPr>
              <a:t>actividades económicas </a:t>
            </a:r>
            <a:r>
              <a:rPr b="0" lang="es-MX" sz="2000" spc="-1" strike="noStrike">
                <a:solidFill>
                  <a:srgbClr val="000000"/>
                </a:solidFill>
                <a:latin typeface="Aptos"/>
                <a:ea typeface="Arial"/>
              </a:rPr>
              <a:t>de producción y comercialización de bienes y servicios desarrolladas por la o las empresas antecesoras o de alguna actividad vinculada a aquellas. </a:t>
            </a:r>
            <a:r>
              <a:rPr b="1" i="1" lang="es-MX" sz="2000" spc="-1" strike="noStrike">
                <a:solidFill>
                  <a:srgbClr val="000000"/>
                </a:solidFill>
                <a:latin typeface="Aptos"/>
                <a:ea typeface="Arial"/>
              </a:rPr>
              <a:t>“Son actividades económicas generadoras de ingresos”.</a:t>
            </a: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MX" sz="2000" spc="-1" strike="noStrike">
                <a:solidFill>
                  <a:srgbClr val="000000"/>
                </a:solidFill>
                <a:latin typeface="Aptos"/>
                <a:ea typeface="Arial"/>
              </a:rPr>
              <a:t>Distinto </a:t>
            </a:r>
            <a:r>
              <a:rPr b="1" i="1" lang="es-MX" sz="2000" spc="-1" strike="noStrike">
                <a:solidFill>
                  <a:srgbClr val="000000"/>
                </a:solidFill>
                <a:latin typeface="Aptos"/>
                <a:ea typeface="Arial"/>
              </a:rPr>
              <a:t>“actividades objeto de la empresa”. </a:t>
            </a:r>
            <a:r>
              <a:rPr b="0" lang="es-MX" sz="2000" spc="-1" strike="noStrike">
                <a:solidFill>
                  <a:srgbClr val="000000"/>
                </a:solidFill>
                <a:latin typeface="Aptos"/>
                <a:ea typeface="Arial"/>
              </a:rPr>
              <a:t>Se limita a exigir que no encuentre inactiva de modo que pueda ser sucedida por otra empresa. Surge que haya mantenido algún tipo de actividad aunque no generen ingresos. </a:t>
            </a:r>
            <a:endParaRPr b="0" lang="en-US" sz="2000" spc="-1" strike="noStrike">
              <a:solidFill>
                <a:srgbClr val="000000"/>
              </a:solidFill>
              <a:latin typeface="Calibri"/>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303120" y="1595520"/>
            <a:ext cx="11582640" cy="5132160"/>
          </a:xfrm>
          <a:prstGeom prst="rect">
            <a:avLst/>
          </a:prstGeom>
          <a:noFill/>
          <a:ln w="9360">
            <a:solidFill>
              <a:srgbClr val="4f81bd"/>
            </a:solidFill>
            <a:miter/>
          </a:ln>
        </p:spPr>
        <p:txBody>
          <a:bodyPr anchor="t">
            <a:normAutofit/>
          </a:bodyPr>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000" spc="-1" strike="noStrike">
                <a:solidFill>
                  <a:srgbClr val="c0504d"/>
                </a:solidFill>
                <a:latin typeface="Arial Unicode MS"/>
              </a:rPr>
              <a:t>Dictámenes 20/12, 23/12, 27/16, 2/18, 30/18</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a:rPr>
              <a:t>Creación de sociedad para participar en el proceso de reorganización y al solo efecto de recibir el patrimonio escindido.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a:rPr>
              <a:t>Único objeto de la constitución previa es posibilitar la inmediata operación del negocio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a:rPr>
              <a:t>No debe iniciar actividades hasta la fecha efectiva.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a:rPr>
              <a:t>No deben tener asociado hasta la fecha efectiva ningún atributo impositivo – más allá de la constitución-  (vg: quebrantos, costos impositivos) –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000000"/>
                </a:solidFill>
                <a:latin typeface="Aptos"/>
              </a:rPr>
              <a:t>Situación patrimonial análoga a la empresa que se hubiera creado mediante la división del patrimonio de la firma que se escinde (escisión-constitución).</a:t>
            </a: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2000" spc="-1" strike="noStrike">
                <a:solidFill>
                  <a:srgbClr val="000000"/>
                </a:solidFill>
                <a:latin typeface="Aptos"/>
              </a:rPr>
              <a:t>No es exigible para estas sociedades: (i) ser empresa en marcha y (ii) </a:t>
            </a:r>
            <a:r>
              <a:rPr b="1" lang="es-ES" sz="2000" spc="-1" strike="noStrike">
                <a:solidFill>
                  <a:srgbClr val="000000"/>
                </a:solidFill>
                <a:latin typeface="Aptos"/>
              </a:rPr>
              <a:t>actividades iguales o vinculadas en forma previa a la fecha efectiva. </a:t>
            </a:r>
            <a:endParaRPr b="0" lang="en-US" sz="2000" spc="-1" strike="noStrike">
              <a:solidFill>
                <a:srgbClr val="000000"/>
              </a:solidFill>
              <a:latin typeface="Calibri"/>
            </a:endParaRPr>
          </a:p>
        </p:txBody>
      </p:sp>
      <p:sp>
        <p:nvSpPr>
          <p:cNvPr id="110"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9EF510-321D-4514-B68E-4EE7AD4F174C}"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
        <p:nvSpPr>
          <p:cNvPr id="111" name="CuadroTexto 2"/>
          <p:cNvSpPr/>
          <p:nvPr/>
        </p:nvSpPr>
        <p:spPr>
          <a:xfrm>
            <a:off x="1712880" y="0"/>
            <a:ext cx="876312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800" spc="-1" strike="noStrike">
                <a:solidFill>
                  <a:srgbClr val="4f81bd"/>
                </a:solidFill>
                <a:latin typeface="Aptos Bold"/>
              </a:rPr>
              <a:t>Empresas en marcha. </a:t>
            </a:r>
            <a:endParaRPr b="0" lang="en-US" sz="2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800" spc="-1" strike="noStrike" u="sng">
                <a:solidFill>
                  <a:srgbClr val="4f81bd"/>
                </a:solidFill>
                <a:uFillTx/>
                <a:latin typeface="Aptos Bold"/>
              </a:rPr>
              <a:t>¿</a:t>
            </a:r>
            <a:r>
              <a:rPr b="1" i="1" lang="es-AR" sz="2800" spc="-1" strike="noStrike">
                <a:solidFill>
                  <a:srgbClr val="4f81bd"/>
                </a:solidFill>
                <a:latin typeface="Aptos Bold"/>
              </a:rPr>
              <a:t>Se puede crear una sociedad para recibir patrimonio escindido?</a:t>
            </a:r>
            <a:endParaRPr b="0" lang="en-US" sz="2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2800" spc="-1" strike="noStrike">
                <a:solidFill>
                  <a:srgbClr val="4f81bd"/>
                </a:solidFill>
                <a:latin typeface="Aptos Bold"/>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512800" y="380880"/>
            <a:ext cx="7391160" cy="7128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Actividades iguales o vinculadas</a:t>
            </a:r>
            <a:endParaRPr b="0" lang="en-US" sz="2800" spc="-1" strike="noStrike">
              <a:solidFill>
                <a:srgbClr val="000000"/>
              </a:solidFill>
              <a:latin typeface="Calibri"/>
            </a:endParaRPr>
          </a:p>
        </p:txBody>
      </p:sp>
      <p:sp>
        <p:nvSpPr>
          <p:cNvPr id="113" name="CuadroTexto 13"/>
          <p:cNvSpPr/>
          <p:nvPr/>
        </p:nvSpPr>
        <p:spPr>
          <a:xfrm>
            <a:off x="264960" y="1676520"/>
            <a:ext cx="11658600" cy="451548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MX" sz="2000" spc="-1" strike="noStrike">
                <a:solidFill>
                  <a:srgbClr val="000000"/>
                </a:solidFill>
                <a:latin typeface="Aptos"/>
              </a:rPr>
              <a:t>“</a:t>
            </a:r>
            <a:r>
              <a:rPr b="0" i="1" lang="es-MX" sz="2000" spc="-1" strike="noStrike">
                <a:solidFill>
                  <a:srgbClr val="000000"/>
                </a:solidFill>
                <a:latin typeface="Aptos"/>
              </a:rPr>
              <a:t>Que las empresas hayan </a:t>
            </a:r>
            <a:r>
              <a:rPr b="1" i="1" lang="es-MX" sz="2000" spc="-1" strike="noStrike">
                <a:solidFill>
                  <a:srgbClr val="000000"/>
                </a:solidFill>
                <a:latin typeface="Aptos"/>
              </a:rPr>
              <a:t>desarrollado actividades iguales o vinculadas durante los 12 meses anteriores </a:t>
            </a:r>
            <a:r>
              <a:rPr b="0" i="1" lang="es-MX" sz="2000" spc="-1" strike="noStrike">
                <a:solidFill>
                  <a:srgbClr val="000000"/>
                </a:solidFill>
                <a:latin typeface="Aptos"/>
              </a:rPr>
              <a:t>a la </a:t>
            </a:r>
            <a:r>
              <a:rPr b="1" i="1" lang="es-MX" sz="2000" spc="-1" strike="noStrike">
                <a:solidFill>
                  <a:srgbClr val="000000"/>
                </a:solidFill>
                <a:latin typeface="Aptos"/>
              </a:rPr>
              <a:t>fecha de la reorganización </a:t>
            </a:r>
            <a:r>
              <a:rPr b="0" i="1" lang="es-MX" sz="2000" spc="-1" strike="noStrike">
                <a:solidFill>
                  <a:srgbClr val="000000"/>
                </a:solidFill>
                <a:latin typeface="Aptos"/>
              </a:rPr>
              <a:t>o la del cese, si el mismo se hubiera producido antes o, en ambos casos, durante el lapso de su existencia si este fuera menor. </a:t>
            </a:r>
            <a:endParaRPr b="0" lang="en-US" sz="2000" spc="-1" strike="noStrike">
              <a:solidFill>
                <a:srgbClr val="000000"/>
              </a:solidFill>
              <a:latin typeface="Calibri"/>
            </a:endParaRPr>
          </a:p>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MX" sz="2000" spc="-1" strike="noStrike">
                <a:solidFill>
                  <a:srgbClr val="000000"/>
                </a:solidFill>
                <a:latin typeface="Aptos"/>
              </a:rPr>
              <a:t>Se consideran vinculadas a aquellas que coadyuven o complementen un proceso industrial, comercial o administrativo, o que tiendan a un logro o finalidad que guarde relación con la otra actividad (integración horizontal y/o vertical)”.</a:t>
            </a:r>
            <a:endParaRPr b="0" lang="en-US" sz="2000" spc="-1" strike="noStrike">
              <a:solidFill>
                <a:srgbClr val="000000"/>
              </a:solidFill>
              <a:latin typeface="Calibri"/>
            </a:endParaRPr>
          </a:p>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2000" spc="-1" strike="noStrike">
                <a:solidFill>
                  <a:srgbClr val="000000"/>
                </a:solidFill>
                <a:latin typeface="Aptos"/>
              </a:rPr>
              <a:t>Integración horizontal: </a:t>
            </a:r>
            <a:r>
              <a:rPr b="0" lang="es-MX" sz="2000" spc="-1" strike="noStrike">
                <a:solidFill>
                  <a:srgbClr val="000000"/>
                </a:solidFill>
                <a:latin typeface="Aptos"/>
              </a:rPr>
              <a:t>concentración de empresas que producen productos iguales o similares.</a:t>
            </a:r>
            <a:endParaRPr b="0" lang="en-US" sz="2000" spc="-1" strike="noStrike">
              <a:solidFill>
                <a:srgbClr val="000000"/>
              </a:solidFill>
              <a:latin typeface="Calibri"/>
            </a:endParaRPr>
          </a:p>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MX" sz="2000" spc="-1" strike="noStrike">
                <a:solidFill>
                  <a:srgbClr val="000000"/>
                </a:solidFill>
                <a:latin typeface="Aptos"/>
              </a:rPr>
              <a:t>Integración vertical: </a:t>
            </a:r>
            <a:r>
              <a:rPr b="0" lang="es-MX" sz="2000" spc="-1" strike="noStrike">
                <a:solidFill>
                  <a:srgbClr val="000000"/>
                </a:solidFill>
                <a:latin typeface="Aptos"/>
              </a:rPr>
              <a:t>garantiza al productos adecuados canales de insumos o de una mejor forma de colocar la producción.</a:t>
            </a:r>
            <a:endParaRPr b="0" lang="en-US" sz="2000" spc="-1" strike="noStrike">
              <a:solidFill>
                <a:srgbClr val="000000"/>
              </a:solidFill>
              <a:latin typeface="Calibri"/>
            </a:endParaRPr>
          </a:p>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609120" y="171000"/>
            <a:ext cx="11123640" cy="6550200"/>
          </a:xfrm>
          <a:prstGeom prst="rect">
            <a:avLst/>
          </a:prstGeom>
          <a:noFill/>
          <a:ln w="9360">
            <a:solidFill>
              <a:srgbClr val="4f81bd"/>
            </a:solidFill>
            <a:miter/>
          </a:ln>
        </p:spPr>
        <p:txBody>
          <a:bodyPr anchor="t">
            <a:normAutofit fontScale="95000"/>
          </a:bodyPr>
          <a:p>
            <a:pPr marL="32580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800" spc="-1" strike="noStrike">
                <a:solidFill>
                  <a:srgbClr val="4f81bd"/>
                </a:solidFill>
                <a:latin typeface="Aptos"/>
              </a:rPr>
              <a:t>Actividades iguales o vinculadas</a:t>
            </a:r>
            <a:endParaRPr b="0" lang="en-US" sz="2800" spc="-1" strike="noStrike">
              <a:solidFill>
                <a:srgbClr val="000000"/>
              </a:solidFill>
              <a:latin typeface="Calibri"/>
            </a:endParaRPr>
          </a:p>
          <a:p>
            <a:pPr marL="325800"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800" spc="-1" strike="noStrike">
                <a:solidFill>
                  <a:srgbClr val="4f81bd"/>
                </a:solidFill>
                <a:latin typeface="Aptos SemiBold"/>
              </a:rPr>
              <a:t>¿Realizar actividad inversora (“holding”) se considera actividad susceptible de ser reorganizada?</a:t>
            </a:r>
            <a:endParaRPr b="0" lang="en-US" sz="2800" spc="-1" strike="noStrike">
              <a:solidFill>
                <a:srgbClr val="000000"/>
              </a:solidFill>
              <a:latin typeface="Calibri"/>
            </a:endParaRPr>
          </a:p>
          <a:p>
            <a:pPr marL="325800"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2400" spc="-1" strike="noStrike">
                <a:solidFill>
                  <a:srgbClr val="4f81bd"/>
                </a:solidFill>
                <a:latin typeface="Aptos Narrow"/>
              </a:rPr>
              <a:t>Actividad inversora en sí misma es actividad que puede ser objeto de reorganización: </a:t>
            </a:r>
            <a:endParaRPr b="0" lang="en-US" sz="2400" spc="-1" strike="noStrike">
              <a:solidFill>
                <a:srgbClr val="000000"/>
              </a:solidFill>
              <a:latin typeface="Calibri"/>
            </a:endParaRPr>
          </a:p>
          <a:p>
            <a:pPr marL="325800"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25800" indent="0" algn="ctr">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400" spc="-1" strike="noStrike">
                <a:solidFill>
                  <a:srgbClr val="c0504d"/>
                </a:solidFill>
                <a:latin typeface="Aptos Narrow"/>
              </a:rPr>
              <a:t>Dictámenes </a:t>
            </a:r>
            <a:r>
              <a:rPr b="1" i="1" lang="es-ES" sz="2400" spc="-1" strike="noStrike">
                <a:solidFill>
                  <a:srgbClr val="c0504d"/>
                </a:solidFill>
                <a:latin typeface="Aptos Narrow"/>
              </a:rPr>
              <a:t>54/05, 42/08, 30/09,19/11, 52/11, 84/11, 104/11, 19/13, 23/13, 5/14, 23/14, 31/14, 9/15, 20/15, 25/15, etc.</a:t>
            </a:r>
            <a:endParaRPr b="0" lang="en-US" sz="2400" spc="-1" strike="noStrike">
              <a:solidFill>
                <a:srgbClr val="000000"/>
              </a:solidFill>
              <a:latin typeface="Calibri"/>
            </a:endParaRPr>
          </a:p>
          <a:p>
            <a:pPr marL="325800" indent="-32580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La tenencia de acciones </a:t>
            </a:r>
            <a:r>
              <a:rPr b="1" i="1" lang="es-ES" sz="2000" spc="-1" strike="noStrike">
                <a:solidFill>
                  <a:srgbClr val="000000"/>
                </a:solidFill>
                <a:latin typeface="Aptos Narrow"/>
              </a:rPr>
              <a:t>con control societario </a:t>
            </a:r>
            <a:r>
              <a:rPr b="0" lang="es-ES" sz="2000" spc="-1" strike="noStrike">
                <a:solidFill>
                  <a:srgbClr val="000000"/>
                </a:solidFill>
                <a:latin typeface="Aptos Narrow"/>
              </a:rPr>
              <a:t>o </a:t>
            </a:r>
            <a:r>
              <a:rPr b="1" i="1" lang="es-ES" sz="2000" spc="-1" strike="noStrike">
                <a:solidFill>
                  <a:srgbClr val="000000"/>
                </a:solidFill>
                <a:latin typeface="Aptos Narrow"/>
              </a:rPr>
              <a:t>con carácter permanente </a:t>
            </a:r>
            <a:r>
              <a:rPr b="0" lang="es-ES" sz="2000" spc="-1" strike="noStrike">
                <a:solidFill>
                  <a:srgbClr val="000000"/>
                </a:solidFill>
                <a:latin typeface="Aptos Narrow"/>
              </a:rPr>
              <a:t>conlleva la realización de una actividad inversora susceptible de reorganizarse. </a:t>
            </a:r>
            <a:endParaRPr b="0" lang="en-US" sz="2000" spc="-1" strike="noStrike">
              <a:solidFill>
                <a:srgbClr val="000000"/>
              </a:solidFill>
              <a:latin typeface="Calibri"/>
            </a:endParaRPr>
          </a:p>
          <a:p>
            <a:pPr marL="325800" indent="-32580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Existe “actividad” cuando para obtener ingresos se requiere costos, gastos y riesgos empresarios. Gastos para compra de acciones + proceso de toma de decisiones en las controladas. Riesgos asociados. </a:t>
            </a:r>
            <a:endParaRPr b="0" lang="en-US" sz="2000" spc="-1" strike="noStrike">
              <a:solidFill>
                <a:srgbClr val="000000"/>
              </a:solidFill>
              <a:latin typeface="Calibri"/>
            </a:endParaRPr>
          </a:p>
          <a:p>
            <a:pPr marL="325800" indent="-32580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No es la mera tenencia en entidades controladas sin realizar actividad alguna.</a:t>
            </a:r>
            <a:endParaRPr b="0" lang="en-US" sz="2000" spc="-1" strike="noStrike">
              <a:solidFill>
                <a:srgbClr val="000000"/>
              </a:solidFill>
              <a:latin typeface="Calibri"/>
            </a:endParaRPr>
          </a:p>
          <a:p>
            <a:pPr marL="325800" indent="-32580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La tenencia de acciones no representan sólo la colocación temporal de excedentes de fondos.</a:t>
            </a:r>
            <a:endParaRPr b="0" lang="en-US" sz="2000" spc="-1" strike="noStrike">
              <a:solidFill>
                <a:srgbClr val="000000"/>
              </a:solidFill>
              <a:latin typeface="Calibri"/>
            </a:endParaRPr>
          </a:p>
          <a:p>
            <a:pPr marL="325800" indent="-32580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Aptos Narrow"/>
              </a:rPr>
              <a:t>La actividad inversora debe ser desarrollada por cada una de las antecesoras. Actividad continuada “inversora”. </a:t>
            </a:r>
            <a:endParaRPr b="0" lang="en-US" sz="2000" spc="-1" strike="noStrike">
              <a:solidFill>
                <a:srgbClr val="000000"/>
              </a:solidFill>
              <a:latin typeface="Calibri"/>
            </a:endParaRPr>
          </a:p>
        </p:txBody>
      </p:sp>
      <p:sp>
        <p:nvSpPr>
          <p:cNvPr id="115" name="1 Marcador de número de diapositiva"/>
          <p:cNvSpPr/>
          <p:nvPr/>
        </p:nvSpPr>
        <p:spPr>
          <a:xfrm>
            <a:off x="8736120" y="6356520"/>
            <a:ext cx="284328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93DF35-14BA-47BD-AB2A-EFAB0B1A79DB}" type="slidenum">
              <a:rPr b="0" lang="en-US"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03T12:34:14Z</dcterms:created>
  <dc:creator>...</dc:creator>
  <dc:description/>
  <dc:language>en-US</dc:language>
  <cp:lastModifiedBy>Maria Ines Brandt</cp:lastModifiedBy>
  <cp:lastPrinted>2025-10-21T17:44:08Z</cp:lastPrinted>
  <dcterms:modified xsi:type="dcterms:W3CDTF">2025-10-26T16:03:04Z</dcterms:modified>
  <cp:revision>228</cp:revision>
  <dc:subject/>
  <dc:title>Slide 1</dc:title>
</cp:coreProperties>
</file>